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ED97-57EC-48AF-9A75-C33C8A71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A24-1F5E-4F1E-932D-E16C82D6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515-6408-418C-A91C-69E67BDD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78D-6F61-4081-B227-10491D56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8522-6B35-44DD-A9E1-829E6C87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65CB-C103-4A02-AE9D-E17633FE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979-E8DB-4494-9D59-90B7C5D9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AF9-8762-4CF7-A539-56DB8DEE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189B-DEA0-4138-8944-49503FE2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897-453D-425D-85B1-4DEF76BF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887E-25E3-4318-8A01-C4E3787F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F59-5303-4BD7-99F5-9C0B1FF8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8071-AFE4-40D8-A21F-9FE938838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jpe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71720" y="50004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8800" spc="-1" strike="noStrike">
                <a:solidFill>
                  <a:srgbClr val="77933c"/>
                </a:solidFill>
                <a:latin typeface="Arial Black"/>
                <a:ea typeface="Aharoni"/>
              </a:rPr>
              <a:t>AGRARN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8800" spc="-1" strike="noStrike">
                <a:solidFill>
                  <a:srgbClr val="ff0000"/>
                </a:solidFill>
                <a:latin typeface="Arial Black"/>
                <a:ea typeface="Aharoni"/>
              </a:rPr>
              <a:t>POLITIK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254061"/>
                </a:solidFill>
                <a:latin typeface="Arial Black"/>
                <a:ea typeface="Aharoni"/>
              </a:rPr>
              <a:t>E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79504"/>
                </a:solidFill>
                <a:latin typeface="Calibri"/>
              </a:rPr>
              <a:t>Zašto udeo poljoprivrede opada tokom ekonomskog razvoja</a:t>
            </a:r>
            <a:r>
              <a:rPr b="0" lang="tr-TR" sz="3200" spc="-1" strike="noStrike">
                <a:solidFill>
                  <a:srgbClr val="879504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28480" y="1500120"/>
            <a:ext cx="742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Dohodovno neelastična tražnja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 hranom: rastom dohotka po glavi stanovnika, opada udeo izdataka za ishranu u domaćinsv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Engelov zako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: rastom dohotka po glavi stanovnika, proporcija dohotka potrošenog na hranu relativno opada u odnosu na druge proizvo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428480" y="428760"/>
            <a:ext cx="742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ako tražnja domaćinstava za hranom opada u odnosu na druge proizvode, relativne cene hrane opadaj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igracija faktora proizvodnje iz poljoprivrede u druge delatnosti (rada i kapital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deo poljoprivrede opada tokom razvojnog proce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2884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koro uvek, udeo poljoprivrede opada 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posle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Bruto domaćem proizvo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delu izdataka za ishra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Da li poljoprivredni proizvođači postaju siromašniji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Da li se smanjuje broj poljoprivrednih proizvođača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okazatelji mesta i uloge poljoprivre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ntent Placeholder 2"/>
          <p:cNvSpPr/>
          <p:nvPr/>
        </p:nvSpPr>
        <p:spPr>
          <a:xfrm>
            <a:off x="1692360" y="333360"/>
            <a:ext cx="7010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NDIKATOR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češće poljoprivrednog u ukupnom stanovništvu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češće poljoprivrede u formiranju bruto domaćeg proizvoda (BD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načaj poljoprivrede u spoljnotrgovinskoj razmeni, odnosno međunarodnoj trgovin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astupljenost investicija u poljoprivredi i ukupnim privrednim investicija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deo izdataka za ishranu u ukupnim izdacima za ličnu potrošnju domaćinst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okazatelji mesta i uloge poljoprivre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928880" y="214200"/>
            <a:ext cx="6286320" cy="509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9144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okazatelji mesta i uloge poljoprivre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643040" y="428760"/>
            <a:ext cx="7067520" cy="481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le 1"/>
          <p:cNvSpPr/>
          <p:nvPr/>
        </p:nvSpPr>
        <p:spPr>
          <a:xfrm>
            <a:off x="91440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Pokazatelji mesta i uloge poljoprivre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28840" y="214200"/>
            <a:ext cx="7072200" cy="5140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Agroindustrijski komple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 rot="60000">
            <a:off x="1662120" y="24588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5" descr="think-5.jpg"/>
          <p:cNvPicPr/>
          <p:nvPr/>
        </p:nvPicPr>
        <p:blipFill>
          <a:blip r:embed="rId1"/>
          <a:srcRect l="0" t="14587" r="0" b="12500"/>
          <a:stretch/>
        </p:blipFill>
        <p:spPr>
          <a:xfrm>
            <a:off x="0" y="2214720"/>
            <a:ext cx="9144000" cy="4643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Image result for mk group"/>
          <p:cNvPicPr/>
          <p:nvPr/>
        </p:nvPicPr>
        <p:blipFill>
          <a:blip r:embed="rId2"/>
          <a:srcRect l="30360" t="37082" r="32535" b="39327"/>
          <a:stretch/>
        </p:blipFill>
        <p:spPr>
          <a:xfrm>
            <a:off x="2000160" y="3143160"/>
            <a:ext cx="1684440" cy="7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Image result for bayer crop"/>
          <p:cNvPicPr/>
          <p:nvPr/>
        </p:nvPicPr>
        <p:blipFill>
          <a:blip r:embed="rId3"/>
          <a:stretch/>
        </p:blipFill>
        <p:spPr>
          <a:xfrm>
            <a:off x="714240" y="3786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Related image"/>
          <p:cNvPicPr/>
          <p:nvPr/>
        </p:nvPicPr>
        <p:blipFill>
          <a:blip r:embed="rId4"/>
          <a:stretch/>
        </p:blipFill>
        <p:spPr>
          <a:xfrm>
            <a:off x="785880" y="3000240"/>
            <a:ext cx="784080" cy="804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Related image"/>
          <p:cNvPicPr/>
          <p:nvPr/>
        </p:nvPicPr>
        <p:blipFill>
          <a:blip r:embed="rId5"/>
          <a:srcRect l="45006" t="49228" r="0" b="0"/>
          <a:stretch/>
        </p:blipFill>
        <p:spPr>
          <a:xfrm>
            <a:off x="785880" y="2214720"/>
            <a:ext cx="857160" cy="682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Image result for raiffeisen agro"/>
          <p:cNvPicPr/>
          <p:nvPr/>
        </p:nvPicPr>
        <p:blipFill>
          <a:blip r:embed="rId6"/>
          <a:stretch/>
        </p:blipFill>
        <p:spPr>
          <a:xfrm>
            <a:off x="785880" y="1357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Image result for delta agrar"/>
          <p:cNvPicPr/>
          <p:nvPr/>
        </p:nvPicPr>
        <p:blipFill>
          <a:blip r:embed="rId7"/>
          <a:stretch/>
        </p:blipFill>
        <p:spPr>
          <a:xfrm>
            <a:off x="2000160" y="3786120"/>
            <a:ext cx="1768680" cy="9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Image result for carnex"/>
          <p:cNvPicPr/>
          <p:nvPr/>
        </p:nvPicPr>
        <p:blipFill>
          <a:blip r:embed="rId8"/>
          <a:srcRect l="30472" t="12513" r="28519" b="12513"/>
          <a:stretch/>
        </p:blipFill>
        <p:spPr>
          <a:xfrm>
            <a:off x="4357800" y="3286080"/>
            <a:ext cx="763560" cy="78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Related image"/>
          <p:cNvPicPr/>
          <p:nvPr/>
        </p:nvPicPr>
        <p:blipFill>
          <a:blip r:embed="rId9"/>
          <a:stretch/>
        </p:blipFill>
        <p:spPr>
          <a:xfrm>
            <a:off x="2071800" y="2286000"/>
            <a:ext cx="1747800" cy="738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Related image"/>
          <p:cNvPicPr/>
          <p:nvPr/>
        </p:nvPicPr>
        <p:blipFill>
          <a:blip r:embed="rId10"/>
          <a:stretch/>
        </p:blipFill>
        <p:spPr>
          <a:xfrm>
            <a:off x="2071800" y="1214280"/>
            <a:ext cx="1500120" cy="814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0" descr="Imlek"/>
          <p:cNvPicPr/>
          <p:nvPr/>
        </p:nvPicPr>
        <p:blipFill>
          <a:blip r:embed="rId11"/>
          <a:stretch/>
        </p:blipFill>
        <p:spPr>
          <a:xfrm>
            <a:off x="4143240" y="2286000"/>
            <a:ext cx="1285920" cy="890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Victoriaoil"/>
          <p:cNvPicPr/>
          <p:nvPr/>
        </p:nvPicPr>
        <p:blipFill>
          <a:blip r:embed="rId12"/>
          <a:stretch/>
        </p:blipFill>
        <p:spPr>
          <a:xfrm>
            <a:off x="642960" y="571680"/>
            <a:ext cx="1047600" cy="509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Univerexport"/>
          <p:cNvPicPr/>
          <p:nvPr/>
        </p:nvPicPr>
        <p:blipFill>
          <a:blip r:embed="rId13"/>
          <a:stretch/>
        </p:blipFill>
        <p:spPr>
          <a:xfrm>
            <a:off x="5715000" y="4214880"/>
            <a:ext cx="142704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4" descr="Industrija mesa Matijevi&amp;cacute;"/>
          <p:cNvPicPr/>
          <p:nvPr/>
        </p:nvPicPr>
        <p:blipFill>
          <a:blip r:embed="rId14"/>
          <a:stretch/>
        </p:blipFill>
        <p:spPr>
          <a:xfrm>
            <a:off x="2214720" y="642960"/>
            <a:ext cx="1346040" cy="3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Image result for coca cola logo"/>
          <p:cNvPicPr/>
          <p:nvPr/>
        </p:nvPicPr>
        <p:blipFill>
          <a:blip r:embed="rId15"/>
          <a:stretch/>
        </p:blipFill>
        <p:spPr>
          <a:xfrm>
            <a:off x="4286160" y="12142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4" descr="Image result for carlsberg logo"/>
          <p:cNvPicPr/>
          <p:nvPr/>
        </p:nvPicPr>
        <p:blipFill>
          <a:blip r:embed="rId16"/>
          <a:stretch/>
        </p:blipFill>
        <p:spPr>
          <a:xfrm>
            <a:off x="3929040" y="4143240"/>
            <a:ext cx="1433520" cy="581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6" descr="Related image"/>
          <p:cNvPicPr/>
          <p:nvPr/>
        </p:nvPicPr>
        <p:blipFill>
          <a:blip r:embed="rId17"/>
          <a:srcRect l="0" t="0" r="0" b="23522"/>
          <a:stretch/>
        </p:blipFill>
        <p:spPr>
          <a:xfrm>
            <a:off x="4143240" y="357120"/>
            <a:ext cx="1357560" cy="67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Резултат слика за horeca"/>
          <p:cNvPicPr/>
          <p:nvPr/>
        </p:nvPicPr>
        <p:blipFill>
          <a:blip r:embed="rId18"/>
          <a:stretch/>
        </p:blipFill>
        <p:spPr>
          <a:xfrm>
            <a:off x="7421400" y="3929040"/>
            <a:ext cx="1505160" cy="800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8" descr="Image result for lidl logo"/>
          <p:cNvPicPr/>
          <p:nvPr/>
        </p:nvPicPr>
        <p:blipFill>
          <a:blip r:embed="rId19"/>
          <a:stretch/>
        </p:blipFill>
        <p:spPr>
          <a:xfrm>
            <a:off x="6000840" y="3000240"/>
            <a:ext cx="880920" cy="881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0" descr="Image result for maxi logo"/>
          <p:cNvPicPr/>
          <p:nvPr/>
        </p:nvPicPr>
        <p:blipFill>
          <a:blip r:embed="rId20"/>
          <a:srcRect l="0" t="23600" r="0" b="24159"/>
          <a:stretch/>
        </p:blipFill>
        <p:spPr>
          <a:xfrm>
            <a:off x="5643720" y="2286000"/>
            <a:ext cx="1571400" cy="455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6" descr="Image result for idea market logo"/>
          <p:cNvPicPr/>
          <p:nvPr/>
        </p:nvPicPr>
        <p:blipFill>
          <a:blip r:embed="rId21"/>
          <a:stretch/>
        </p:blipFill>
        <p:spPr>
          <a:xfrm>
            <a:off x="5715000" y="1428840"/>
            <a:ext cx="1357200" cy="512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8" descr="Related image"/>
          <p:cNvPicPr/>
          <p:nvPr/>
        </p:nvPicPr>
        <p:blipFill>
          <a:blip r:embed="rId22"/>
          <a:stretch/>
        </p:blipFill>
        <p:spPr>
          <a:xfrm>
            <a:off x="592920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4" descr="Image result for man ate  illustration"/>
          <p:cNvPicPr/>
          <p:nvPr/>
        </p:nvPicPr>
        <p:blipFill>
          <a:blip r:embed="rId23"/>
          <a:stretch/>
        </p:blipFill>
        <p:spPr>
          <a:xfrm>
            <a:off x="7572240" y="1785960"/>
            <a:ext cx="1289160" cy="208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71400" y="1571400"/>
            <a:ext cx="73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d0d"/>
                </a:solidFill>
                <a:latin typeface="Calibri"/>
              </a:rPr>
              <a:t>HVALA VAM NA PAŽNJI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tle 3"/>
          <p:cNvSpPr/>
          <p:nvPr/>
        </p:nvSpPr>
        <p:spPr>
          <a:xfrm>
            <a:off x="1547640" y="4149720"/>
            <a:ext cx="73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d0d0d"/>
                </a:solidFill>
                <a:latin typeface="Calibri"/>
              </a:rPr>
              <a:t>bojan.matkovski@ef.uns.ac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476360" y="1052640"/>
          <a:ext cx="6840720" cy="3343320"/>
        </p:xfrm>
        <a:graphic>
          <a:graphicData uri="http://schemas.openxmlformats.org/drawingml/2006/table">
            <a:tbl>
              <a:tblPr/>
              <a:tblGrid>
                <a:gridCol w="5040360"/>
                <a:gridCol w="1800360"/>
              </a:tblGrid>
              <a:tr h="556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I </a:t>
                      </a:r>
                      <a:r>
                        <a:rPr b="1" lang="sr-Latn-R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KOLOKVIJ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II </a:t>
                      </a:r>
                      <a:r>
                        <a:rPr b="1" lang="sr-Latn-R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KOLOKVIJ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8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PRISTUPNI R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8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AKTIV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USMENI ISP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UKUP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879504"/>
                          </a:solidFill>
                          <a:latin typeface="Arial Black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2eaf1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Espace réservé du contenu 2"/>
          <p:cNvSpPr/>
          <p:nvPr/>
        </p:nvSpPr>
        <p:spPr>
          <a:xfrm>
            <a:off x="1428840" y="404640"/>
            <a:ext cx="735804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Arial Black"/>
              </a:rPr>
              <a:t>I </a:t>
            </a:r>
            <a:r>
              <a:rPr b="1" lang="sr-Latn-RS" sz="3600" spc="-1" strike="noStrike">
                <a:solidFill>
                  <a:srgbClr val="879504"/>
                </a:solidFill>
                <a:latin typeface="Arial Black"/>
              </a:rPr>
              <a:t>KOLOKVIJ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UVOD U EKONOMIKU POLJOPRIV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OLJOPRIVREDA I PRIVREDNI RAZV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ČNOSTI POLJOPRIV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DINAMIKA RASTA AGREGATNE TRAŽ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1357200" y="333360"/>
            <a:ext cx="70725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79504"/>
                </a:solidFill>
                <a:latin typeface="Arial Black"/>
              </a:rPr>
              <a:t>II </a:t>
            </a:r>
            <a:r>
              <a:rPr b="1" lang="sr-Latn-RS" sz="3600" spc="-1" strike="noStrike">
                <a:solidFill>
                  <a:srgbClr val="879504"/>
                </a:solidFill>
                <a:latin typeface="Arial Black"/>
              </a:rPr>
              <a:t>KOLOKVIJ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AGRARNA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MEĐUNARODNA TRGOVINA I TRGOVINSKA POLITIKA POLJOPRIVREDNIM PROIZVOD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1357200" y="333360"/>
            <a:ext cx="7572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879504"/>
                </a:solidFill>
                <a:latin typeface="Arial Black"/>
              </a:rPr>
              <a:t>USMENI ISP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ZAJEDNIČKA AGRARNA POLITIKA ZEMALJA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RANZICIJA AGRARNOG SEKTORA I INTEGRACIJA ZEMALJA CENTRALNE I ISTOČNE EV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Definisanje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500120" y="285840"/>
            <a:ext cx="73137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oljoprivreda je jednostavna proizvodnja sirovih produkata ili proizvodnja koja prerađivačkoj industriji isporučuje sirovi materijal” </a:t>
            </a: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c22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8795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79504"/>
                </a:solidFill>
                <a:latin typeface="Calibri"/>
              </a:rPr>
              <a:t>“</a:t>
            </a:r>
            <a:r>
              <a:rPr b="1" lang="sr-Latn-CS" sz="2000" spc="-1" strike="noStrike">
                <a:solidFill>
                  <a:srgbClr val="879504"/>
                </a:solidFill>
                <a:latin typeface="Calibri"/>
              </a:rPr>
              <a:t>Poljoprivreda je oblast proizvodnje u kojoj se proizvode, dorađuju ili prerađuju primarni proizvodi biljnog i životinjskog porekla radi zadovoljenja određenih čovekovih potreba”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U okviru opšteg pristupa definisanju poljoprivrede razlikujemo dva glediš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efinicije koje uključuju samo primarnu poljoprivrednu proizvod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efinicije koje modernu poljoprivredu izjednačavaju sa agrobiznis komplek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4f6228"/>
                </a:solidFill>
                <a:latin typeface="Calibri"/>
              </a:rPr>
              <a:t>Širina poimanja poljoprivrede određena je stepenom opšte razvijenosti zeml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360440" y="214200"/>
            <a:ext cx="756936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Proizvodno-tehnološki i organizacion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Da li poljoprivreda obuhvata samo primarnu proizvodnju ili objedinjava međusobno povezane delatnosti primarnog, sekundarnog i tercijalnog sekto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Poslovno-pofesionaln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Da li je poljoprivreda način života ili biznis kao i svaki drugi biznis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Radno-kultn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Da li poljoprivrednici imaju “urođeni” pristup svome posl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Ekološko-patriots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Da li poljoprivreda vodi računa o ravnoteži na relaciji čovek-priroda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4f6228"/>
                </a:solidFill>
                <a:latin typeface="Calibri"/>
              </a:rPr>
              <a:t>Agro-globalistički prist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Da li konvencionalna poljoprivreda može na adekvatan način da odgovori izazovima globalnog problema na relaciji “hrana-siromaštvo-populacija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Različiti pristupi definisanja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879504"/>
                </a:solidFill>
                <a:latin typeface="Calibri"/>
              </a:rPr>
              <a:t>Ekonomika poljoprivre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99760" y="1928880"/>
            <a:ext cx="73580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Kako proizvođači, potrošači i društvo koriste ograničene resurse u proizvodnji, preradi, marketingu i potrošnji hra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56840" y="285840"/>
            <a:ext cx="75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unkcija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1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ezbeđenje hrane za stanovniš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unkcija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2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oizvodnja sirovina za industri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unkcija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3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zvor radne snage za druge dela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unkcija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4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zvor kapitala za druge dela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unkcija 5: Formiranje unutrašnjeg tržišta za industrijske proizvo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unkcija 6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ravnoteženje platnog i trgovinskog bilan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2714760" y="5500800"/>
            <a:ext cx="621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</a:rPr>
              <a:t>Funkcije poljo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3:52:42Z</dcterms:created>
  <dc:creator>User</dc:creator>
  <dc:description/>
  <dc:language>en-US</dc:language>
  <cp:lastModifiedBy>Dragana</cp:lastModifiedBy>
  <dcterms:modified xsi:type="dcterms:W3CDTF">2020-03-24T07:00:05Z</dcterms:modified>
  <cp:revision>120</cp:revision>
  <dc:subject/>
  <dc:title>EKOLOŠKI PROBLEMI POLJOPRIVREDNE PROIZVODNJE I RURALNOG RAZVOJA</dc:title>
</cp:coreProperties>
</file>