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09B-4E06-4F91-985A-9F315B96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43C-1902-4242-9C95-4879219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396-DF23-4C6B-A511-4B5D1B6D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791-F364-4445-AA3A-D8C9128A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E51-4914-4EED-9A5A-8DF29C9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8E9-1E7C-4557-AE81-10C0202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201-EBA6-413A-8549-D43D52E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59A-7284-4447-BE3C-AF3077B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CB8-4CA4-45DF-ABD0-572004D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679-B642-4786-93FA-C08EAA6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376-5005-4B1B-9647-9963282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2C4-3E98-4B03-A073-C270FBD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A27-197D-4FC1-B04A-E26D077CC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lovanje “Zakona” opadajućih povećanja prinosa zeml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5616720" cy="44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ednost sitnog ili krupnog  poljoprivrednog gazdinstv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va grupa teoretičara: Prednost sitnih gazdinstava proističe iz njihove marljivosti, štedljivosti i vrednoć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Ljudski rad na nivou gazdinstva se nije vrednovao, a nivo potrošnje vrednovan je nisk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ruga grupa teoretičara: Prednost krupnih gazdinstava koja racionalnije koriste sredstva proizvodnje, imaju savremenu organizaciju rada, lakše dobijaju kred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ivatna svojina nad zemljiš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Ograničenost zemljišta je omogućila da pojedina lica ostvaruju monopol nad zemljištem što nije moguće kod drugih sredstava koja su masovno dostup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Zemljišna rent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je ekonomska realizacija privatne svojine nad zemljiš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Apsolutn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iferencijalna rent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onopolsk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Koncentracija (akumulacija)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uvećanje individualnog kapitala izdvajanjem i dodavanjem dela viška vrednosti kapitalu koji već funkcioniš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Centralizacija kapital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drazumevanja nestajanje individualnih kapitala spajanjem većeg broja individualnih kapitala u jedan, ili manji broj većih kapitala, što se ostvaruje konkurencij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539640" y="5516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ZAKON KONCENTRACIJE I CENTRALIZACIJE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ncentracija (akumulacija) kapitala u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zemljiš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entralizacija procesa u poljop. proizvodn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232320" cy="28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tehnič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vođenje traktora, poljoprivrednih mašina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zelenu ili hemijsku revoluciju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– upotreba mineralnih đubriva i drugih hemijskih in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III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biološku revoluciju – upotreba mineralnih genetski modifikovanih organi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79504"/>
                </a:solidFill>
                <a:latin typeface="Calibri"/>
              </a:rPr>
              <a:t>NOVA TEHNOLOŠKA REVOLUCIJA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redstavlja kompjuterizaciju i informatizaciju u poljoprivre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1476360" y="5516640"/>
            <a:ext cx="835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AUČNO – TEHNIČKI PROGRES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 rot="20529600">
            <a:off x="2792160" y="705960"/>
            <a:ext cx="4230720" cy="350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organski_proizvod.jpg"/>
          <p:cNvPicPr/>
          <p:nvPr/>
        </p:nvPicPr>
        <p:blipFill>
          <a:blip r:embed="rId1"/>
          <a:stretch/>
        </p:blipFill>
        <p:spPr>
          <a:xfrm>
            <a:off x="2987640" y="476280"/>
            <a:ext cx="4483080" cy="448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ispuštaju sintetičke pesticide u okoli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gazdinstva koja proizvo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rgansk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ran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e narušavaju postojeće različite ekosiste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ća hranljiva vrednost organskih proizv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000920" y="44290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072120" y="4500720"/>
            <a:ext cx="801720" cy="723600"/>
          </a:xfrm>
          <a:prstGeom prst="rect">
            <a:avLst/>
          </a:prstGeom>
          <a:ln w="0">
            <a:noFill/>
          </a:ln>
        </p:spPr>
      </p:pic>
      <p:sp>
        <p:nvSpPr>
          <p:cNvPr id="77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403280" y="18864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GUMENTI PRO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Organski uzgajane namirnice trpe značajne količine gubitaka zbog glodara, insekata, bolesti, pa samim tim zahtevaju značajnu veću količinu zemljišta za istu količinu prin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Neki pesticidi se takođe koriste i u organskoj proizvodnji, neki od njih sadrže teški metal bakar, koji može biti izvor gomilanja istog u proizvo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Mnogi smatraju da organski proizverdena hrana nije održiva jer nije u mogućnosti da odgovori na sve potrebe čovečanstva za hrano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91440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300" spc="-1" strike="noStrike">
                <a:solidFill>
                  <a:srgbClr val="ebf1de"/>
                </a:solidFill>
                <a:latin typeface="Calibri"/>
              </a:rPr>
              <a:t>Organska proizvodnja hran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71800" y="178596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Specifičnosti poljoprivre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03280" y="549000"/>
            <a:ext cx="7283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Proizvodnja hrane je veoma složen sistem koji predstavlja lanac sastavljen od nekoliko karika (primarna poljoprivredna proizvodnja, prerada, transport, prodaja), pa je zbog postizanja sigurnosti i kvaliteta hrane, ova proizvodnja regulisana raznim zakonskim akt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Sistemi standardizacije imaju višestruku ulogu kroz obezbeđivanje sigurnosti potrošača u pogledu kvaliteta i ispravnosti h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83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8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92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95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98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7"/>
          <a:stretch/>
        </p:blipFill>
        <p:spPr>
          <a:xfrm>
            <a:off x="6732720" y="836640"/>
            <a:ext cx="1393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4572000" y="40464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4572000" y="2637000"/>
            <a:ext cx="3313080" cy="8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5076720" y="3573360"/>
            <a:ext cx="1816200" cy="1702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rimenjuju se u 162 drž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 Srbiji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9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140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2200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HAS 1800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andard ISO 22000 se odnosi na proizvodnju zdravstveno ispravne hrane i on može obuhvatiti sve one organizacije koje učestvuju u tom lancu proizvodnj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5 -0.00509 L 0.37605 -0.00509 E">
                                      <p:cBhvr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2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2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3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3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3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4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a rizika i kritične kontrolne tačke u proizvodn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m koji identifikuje, ocenjuje i kontroliše rizike koji su značajni za ispravnost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htev u Srbiji je podnelo 800 preduzeća, a oko 450 je već i dobilo ovaj sertifik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ogućava izvoz na inostrano tržište, kao i postizanje većeg nivoa konkuren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2775E-006 L 0.39376 -0.12046 E">
                                      <p:cBhvr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4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5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5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5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6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nastao iz dobre proizvođačke prakse prateći zahteve potrošača.</a:t>
            </a:r>
            <a:br>
              <a:rPr sz="2000"/>
            </a:b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tandard se odnosi na sve proizvodne procese i radne aktivnosti koje se sprovode na far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u skladu je i sa HACCP standar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vrđuje se bezbednost i kontrola u proizvodnji hrane, postiže se i bolja konkurentnost preduzeća na svetskom tržištu, a dolazi i do stvaranja uslova za sticanje većeg prof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93064E-006 L 0.43316 -0.24116 E">
                                      <p:cBhvr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6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6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7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7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7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18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menjuje se u zemljama gde ima potrošača muslimanske veroispove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otekao je iz šerijatskog zakona koji utvrđuje način pripreme 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Sertifikacija po Halal standardu je u odredbama zdravstvenih, higijenskih i sanitarnih mera kompatibilna sa HACCP i ISO standard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40955 -0.36162 E">
                                      <p:cBhvr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18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18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19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19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19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0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šer predstavlja skup jevrejskih pravila ish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vreji koji se pridržavaju jevrejskih pravila ishrane ne konzumiraju hranu koja ne ispunjava koš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 se dobija od ovlašćenog rabina, a sama procedura za dobijanje ovog standarda može biti komplikovana i zahtev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21965E-006 L 0.42518 -0.47699 E">
                                      <p:cBhvr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ounded Rectangle 5"/>
          <p:cNvGrpSpPr/>
          <p:nvPr/>
        </p:nvGrpSpPr>
        <p:grpSpPr>
          <a:xfrm>
            <a:off x="1420920" y="139680"/>
            <a:ext cx="2700360" cy="1073160"/>
            <a:chOff x="1420920" y="139680"/>
            <a:chExt cx="2700360" cy="1073160"/>
          </a:xfrm>
        </p:grpSpPr>
        <p:pic>
          <p:nvPicPr>
            <p:cNvPr id="206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1420920" y="139680"/>
              <a:ext cx="2700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506600" y="29196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I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6"/>
          <p:cNvGrpSpPr/>
          <p:nvPr/>
        </p:nvGrpSpPr>
        <p:grpSpPr>
          <a:xfrm>
            <a:off x="1420920" y="933480"/>
            <a:ext cx="2700360" cy="1071360"/>
            <a:chOff x="1420920" y="933480"/>
            <a:chExt cx="2700360" cy="1071360"/>
          </a:xfrm>
        </p:grpSpPr>
        <p:pic>
          <p:nvPicPr>
            <p:cNvPr id="209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420920" y="933480"/>
              <a:ext cx="270036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506600" y="1084320"/>
              <a:ext cx="253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CC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8"/>
          <p:cNvGrpSpPr/>
          <p:nvPr/>
        </p:nvGrpSpPr>
        <p:grpSpPr>
          <a:xfrm>
            <a:off x="1285920" y="1762200"/>
            <a:ext cx="2975040" cy="1073160"/>
            <a:chOff x="1285920" y="1762200"/>
            <a:chExt cx="2975040" cy="1073160"/>
          </a:xfrm>
        </p:grpSpPr>
        <p:pic>
          <p:nvPicPr>
            <p:cNvPr id="21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1285920" y="1762200"/>
              <a:ext cx="2975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11280" y="1879560"/>
              <a:ext cx="252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GLOBALG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9"/>
          <p:cNvGrpSpPr/>
          <p:nvPr/>
        </p:nvGrpSpPr>
        <p:grpSpPr>
          <a:xfrm>
            <a:off x="1420920" y="2590920"/>
            <a:ext cx="2700360" cy="1066680"/>
            <a:chOff x="1420920" y="2590920"/>
            <a:chExt cx="2700360" cy="1066680"/>
          </a:xfrm>
        </p:grpSpPr>
        <p:pic>
          <p:nvPicPr>
            <p:cNvPr id="215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1420920" y="2590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506600" y="273996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HAL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ounded Rectangle 10"/>
          <p:cNvGrpSpPr/>
          <p:nvPr/>
        </p:nvGrpSpPr>
        <p:grpSpPr>
          <a:xfrm>
            <a:off x="1420920" y="3382920"/>
            <a:ext cx="2700360" cy="1066680"/>
            <a:chOff x="1420920" y="3382920"/>
            <a:chExt cx="2700360" cy="1066680"/>
          </a:xfrm>
        </p:grpSpPr>
        <p:pic>
          <p:nvPicPr>
            <p:cNvPr id="218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1420920" y="338292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506600" y="3532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KOŠ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Rounded Rectangle 12"/>
          <p:cNvGrpSpPr/>
          <p:nvPr/>
        </p:nvGrpSpPr>
        <p:grpSpPr>
          <a:xfrm>
            <a:off x="1420920" y="4175280"/>
            <a:ext cx="2700360" cy="1066680"/>
            <a:chOff x="1420920" y="4175280"/>
            <a:chExt cx="2700360" cy="1066680"/>
          </a:xfrm>
        </p:grpSpPr>
        <p:pic>
          <p:nvPicPr>
            <p:cNvPr id="221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1420920" y="4175280"/>
              <a:ext cx="2700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506600" y="4324320"/>
              <a:ext cx="253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600" spc="-1" strike="noStrike">
                  <a:solidFill>
                    <a:srgbClr val="ffffff"/>
                  </a:solidFill>
                  <a:latin typeface="Calibri"/>
                </a:rPr>
                <a:t>OST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ounded Rectangle 13"/>
          <p:cNvSpPr/>
          <p:nvPr/>
        </p:nvSpPr>
        <p:spPr>
          <a:xfrm>
            <a:off x="4140360" y="981000"/>
            <a:ext cx="4752720" cy="424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Veliku Britaniju je neophodno posedovati BRC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 izvoz u Rusiju, koja za Srbiju predstavlja značajno izvozno tržiše voća potrebno je ispuniti GOST standarde kvalit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tifikati koji garantuju da je hrana proizvedena na organsk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ebf1de"/>
                </a:solidFill>
                <a:latin typeface="Calibri"/>
              </a:rPr>
              <a:t>Standard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78035E-008 L 0.41737 -0.59237 E">
                                      <p:cBhvr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171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</a:t>
            </a:r>
            <a:br>
              <a:rPr sz="4400"/>
            </a:b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ecifičnosti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rganski karakter poljoprivredne proizvod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Visok uticaj prirodnih fakt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epodudarnost vremena trajanja proizvodnje sa vremenom neposrednog procesa 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poriji obrt kapitala u poljoprivre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oljoprivreda ima sposobnost da proizvodi sredstva za sopstvenu reprodukci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Selo je jedinstvrena socijalna sredina, a seljaštvo jedini društveni sloj u kome nema diferencija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elovanje “Zakona” opadajućeg povećanja prinosa zeml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79504"/>
                </a:solidFill>
                <a:latin typeface="Calibri"/>
              </a:rPr>
              <a:t>Prednost sitnog ili krupnog poljoprivrednog gazd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Organski karakter poljoprivredne proizvod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četni materijal ne sadrži svu masu finalnog proizvo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Živi rad ostvaruje daleko veći efekat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zahteva pažnju, brigu i požrtvovan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Danas su pojedini radni procesi u poljoprivredi potpuno automatizov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Visok uticaj prirodnih fakt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ljoprivredna proizvodnja se odvija na otvorenom pro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uše, poplave, grad, mraz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eliki proizvodni rizi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manjenje uticaja moguće je putem melioracija, veštačkih đubriv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Nepodudarnost vremena trajanja proizvodnje i vremena procesa 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Vreme trajanja proizvodnje nekoliko meseci, a procesa rada ponekad samo nekoliko 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eravnomerno i neracionalno korišćenje sredst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ombinovanje različitih tipova proizvod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poriji obrt kapitala u poljopriv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ostojanje vegetacionog perioda u biljnoj i reprodukcionog ciklusa u stočarskoj proizvodnj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Kapital iste veličine uložen u poljoprivredu i neke druge delatnosti, pri istoj profitnoj stopi donosi niži profit u poljoprivredi, zbog dužine trajanja jednog obrt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Uvođe novih sorti i r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ljoprivreda proizvodi sredstva za sopstvenu reprodukc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Seme, sadnice, stočna hrana, podmladak stoke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Tehnološki progres uslovljava prevazilaženje ove specifič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1619280" y="5516640"/>
            <a:ext cx="72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elo je jedinstvena socijalna sr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470640" cy="37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5:46Z</dcterms:modified>
  <cp:revision>110</cp:revision>
  <dc:subject/>
  <dc:title>EKOLOŠKI PROBLEMI POLJOPRIVREDNE PROIZVODNJE I RURALNOG RAZVOJA</dc:title>
</cp:coreProperties>
</file>