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FBA-3636-4E3B-AC59-3DABD366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677-7B38-4833-B3FD-7C69708B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15D-144B-4B23-AF29-D5A6B251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1AE-7489-4217-8300-F08D356D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607-8670-44AE-9D45-0CE8226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D60-E885-42F3-A2BE-9DA89CB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22C-0CCE-427E-9E69-6393692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6AF-9569-4404-89E7-0399FB4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E5E-AD53-4EBE-B63F-CB43F8CA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A24-2159-478C-A1E8-9326F406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973-9EEF-4531-9250-C83778DC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D91-96BE-4966-9276-2FB683A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D62-03DD-400E-A01E-2C3D08F71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lovanje “Zakona” opadajućih povećanja prinosa zeml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5616720" cy="44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ednost sitnog ili krupnog  poljoprivrednog gazdinstv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va grupa teoretičara: Prednost sitnih gazdinstava proističe iz njihove marljivosti, štedljivosti i vrednoć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Ljudski rad na nivou gazdinstva se nije vrednovao, a nivo potrošnje vrednovan je nisk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ruga grupa teoretičara: Prednost krupnih gazdinstava koja racionalnije koriste sredstva proizvodnje, imaju savremenu organizaciju rada, lakše dobijaju kred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ivatna svojina nad zemljiš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Ograničenost zemljišta je omogućila da pojedina lica ostvaruju monopol nad zemljištem što nije moguće kod drugih sredstava koja su masovno dostup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Zemljišna rent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je ekonomska realizacija privatne svojine nad zemljiš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Apsolutn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iferencijalna rent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iferencijalna rent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onopolsk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539640" y="5516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ZAKON KONCENTRACIJE I CENTRALIZACIJE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Koncentracija (akumulacija) kapital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uvećanje individualnog kapitala izdvajanjem i dodavanjem dela viška vrednosti kapitalu koji već funkcioniš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Centralizacija kapital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drazumevanja nestajanje individualnih kapitala spajanjem većeg broja individualnih kapitala u jedan, ili manji broj većih kapitala, što se ostvaruje konkurencij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539640" y="5516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ZAKON KONCENTRACIJE I CENTRALIZACIJE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oncentracija (akumulacija) kapitala u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entralizacija zemljiš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entralizacija procesa u poljop. proizvodn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232320" cy="28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1476360" y="5516640"/>
            <a:ext cx="83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AUČNO – TEHNIČKI PROGRES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tehničku revoluciju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– uvođenje traktora, poljoprivrednih mašina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zelenu ili hemijsku revoluciju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– upotreba mineralnih đubriva i drugih hemijskih in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I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biološku revoluciju – upotreba mineralnih genetski modifikovanih organi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NOVA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kompjuterizaciju i informatizaciju u poljoprivre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1476360" y="5516640"/>
            <a:ext cx="83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AUČNO – TEHNIČKI PROGRES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 rot="20529600">
            <a:off x="2792160" y="705960"/>
            <a:ext cx="4230720" cy="350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organski_proizvod.jpg"/>
          <p:cNvPicPr/>
          <p:nvPr/>
        </p:nvPicPr>
        <p:blipFill>
          <a:blip r:embed="rId1"/>
          <a:stretch/>
        </p:blipFill>
        <p:spPr>
          <a:xfrm>
            <a:off x="2987640" y="476280"/>
            <a:ext cx="4483080" cy="448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03280" y="54900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GUMENTI 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gazdinstva koja proizvo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rgansk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ran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e ispuštaju sintetičke pesticide u okoli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gazdinstva koja proizvo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rgansk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ran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e narušavaju postojeće različite ekosiste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ća hranljiva vrednost organskih proizv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000920" y="44290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072120" y="4500720"/>
            <a:ext cx="801720" cy="723600"/>
          </a:xfrm>
          <a:prstGeom prst="rect">
            <a:avLst/>
          </a:prstGeom>
          <a:ln w="0">
            <a:noFill/>
          </a:ln>
        </p:spPr>
      </p:pic>
      <p:sp>
        <p:nvSpPr>
          <p:cNvPr id="77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403280" y="18864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GUMENTI PRO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Organski uzgajane namirnice trpe značajne količine gubitaka zbog glodara, insekata, bolesti, pa samim tim zahtevaju značajnu veću količinu zemljišta za istu količinu prin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Neki pesticidi se takođe koriste i u organskoj proizvodnji, neki od njih sadrže teški metal bakar, koji može biti izvor gomilanja istog u proizvo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nogi smatraju da organski proizverdena hrana nije održiva jer nije u mogućnosti da odgovori na sve potrebe čovečanstva za hrano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1"/>
          <p:cNvSpPr/>
          <p:nvPr/>
        </p:nvSpPr>
        <p:spPr>
          <a:xfrm>
            <a:off x="2071800" y="178596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4f6228"/>
                </a:solidFill>
                <a:latin typeface="Calibri"/>
              </a:rPr>
              <a:t>Specifičnosti poljoprivre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03280" y="54900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Proizvodnja hrane je veoma složen sistem koji predstavlja lanac sastavljen od nekoliko karika (primarna poljoprivredna proizvodnja, prerada, transport, prodaja), pa je zbog postizanja sigurnosti i kvaliteta hrane, ova proizvodnja regulisana raznim zakonskim akt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Sistemi standardizacije imaju višestruku ulogu kroz obezbeđivanje sigurnosti potrošača u pogledu kvaliteta i ispravnosti h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83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8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8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92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95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98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7"/>
          <a:stretch/>
        </p:blipFill>
        <p:spPr>
          <a:xfrm>
            <a:off x="6732720" y="836640"/>
            <a:ext cx="1393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8"/>
          <a:stretch/>
        </p:blipFill>
        <p:spPr>
          <a:xfrm>
            <a:off x="4572000" y="40464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4572000" y="2637000"/>
            <a:ext cx="3313080" cy="8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5076720" y="3573360"/>
            <a:ext cx="1816200" cy="1702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0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0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1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1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1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2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rimenjuju se u 162 drž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U Srbiji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90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140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22000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HAS 1800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andard ISO 22000 se odnosi na proizvodnju zdravstveno ispravne hrane i on može obuhvatiti sve one organizacije koje učestvuju u tom lancu proizvodnje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5 -0.00509 L 0.37605 -0.00509 E">
                                      <p:cBhvr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2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2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3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3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3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4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a rizika i kritične kontrolne tačke u proizvodn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m koji identifikuje, ocenjuje i kontroliše rizike koji su značajni za ispravnost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htev u Srbiji je podnelo 800 preduzeća, a oko 450 je već i dobilo ovaj sertifik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ogućava izvoz na inostrano tržište, kao i postizanje većeg nivoa konkuren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42775E-006 L 0.39376 -0.12046 E">
                                      <p:cBhvr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4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4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5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5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5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6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nastao iz dobre proizvođačke prakse prateći zahteve potrošača.</a:t>
            </a:r>
            <a:br>
              <a:rPr sz="2000"/>
            </a:b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standard se odnosi na sve proizvodne procese i radne aktivnosti koje se sprovode na far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u skladu je i sa HACCP standar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otvrđuje se bezbednost i kontrola u proizvodnji hrane, postiže se i bolja konkurentnost preduzeća na svetskom tržištu, a dolazi i do stvaranja uslova za sticanje većeg prof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93064E-006 L 0.43316 -0.24116 E">
                                      <p:cBhvr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6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6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7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7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7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8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menjuje se u zemljama gde ima potrošača muslimanske veroispove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otekao je iz šerijatskog zakona koji utvrđuje način pripreme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Sertifikacija po Halal standardu je u odredbama zdravstvenih, higijenskih i sanitarnih mera kompatibilna sa HACCP i ISO standard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40955 -0.36162 E">
                                      <p:cBhvr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8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8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9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9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9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20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šer predstavlja skup jevrejskih pravila is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vreji koji se pridržavaju jevrejskih pravila ishrane ne konzumiraju hranu koja ne ispunjava koš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tifikat se dobija od ovlašćenog rabina, a sama procedura za dobijanje ovog standarda može biti komplikovana i zahtev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21965E-006 L 0.42518 -0.47699 E">
                                      <p:cBhvr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20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20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21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21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21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22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 izvoz u Veliku Britaniju je neophodno posedovati BRC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 izvoz u Rusiju, koja za Srbiju predstavlja značajno izvozno tržiše voća potrebno je ispuniti GOST standarde kvalite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tifikati koji garantuju da je hrana proizvedena na organsk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8035E-008 L 0.41737 -0.59237 E">
                                      <p:cBhvr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171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</a:t>
            </a:r>
            <a:br>
              <a:rPr sz="4400"/>
            </a:b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pecifičnosti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rganski karakter poljoprivredne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Visok uticaj prirodnih fakt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epodudarnost vremena trajanja proizvodnje sa vremenom neposrednog procesa r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Sporiji obrt kapitala u poljoprivre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oljoprivreda ima sposobnost da proizvodi sredstva za sopstvenu reprodukcij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Selo je jedinstvrena socijalna sredina, a seljaštvo jedini društveni sloj u kome nema diferencij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elovanje “Zakona” opadajućeg povećanja prinosa zeml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Prednost sitnog ili krupnog poljoprivrednog gazd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Organski karakter poljoprivredne proizvod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četni materijal ne sadrži svu masu finalnog proizvo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Živi rad ostvaruje daleko veći efekat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proizvodnja zahteva pažnju, brigu i požrtvovan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anas su pojedini radni procesi u poljoprivredi potpuno automatizov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Visok uticaj prirodnih fakt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proizvodnja se odvija na otvorenom prostor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uše, poplave, grad, mraz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Veliki proizvodni rizi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manjenje uticaja moguće je putem melioracija, veštačkih đubriv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epodudarnost vremena trajanja proizvodnje i vremena procesa 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stojanje vegetacionog perioda u biljnoj i reprodukcionog ciklusa u stočarskoj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Vreme trajanja proizvodnje nekoliko meseci, a procesa rada ponekad samo nekoliko 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eravnomerno i neracionalno korišćenje sredst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ombinovanje različitih tipova proizvod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poriji obrt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stojanje vegetacionog perioda u biljnoj i reprodukcionog ciklusa u stočarskoj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apital iste veličine uložen u poljoprivredu i neke druge delatnosti, pri istoj profitnoj stopi donosi niži profit u poljoprivredi, zbog dužine trajanja jednog obrt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vođe novih sorti i r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ljoprivreda proizvodi sredstva za sopstvenu reprodukc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eme, sadnice, stočna hrana, podmladak stok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Tehnološki progres uslovljava prevazilaženje ove specifič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elo je jedinstvena socijalna sred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70640" cy="374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5:46Z</dcterms:modified>
  <cp:revision>110</cp:revision>
  <dc:subject/>
  <dc:title>EKOLOŠKI PROBLEMI POLJOPRIVREDNE PROIZVODNJE I RURALNOG RAZVOJA</dc:title>
</cp:coreProperties>
</file>