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2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7.png" ContentType="image/png"/>
  <Override PartName="/ppt/media/image24.png" ContentType="image/png"/>
  <Override PartName="/ppt/media/image23.jpeg" ContentType="image/jpeg"/>
  <Override PartName="/ppt/media/image18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4E76-4FA6-42EA-9E62-B497E8B97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2272-8468-47DA-B961-D61E4CED1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B7AB-1228-401D-A9A3-F21D18582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0ED8-5BDE-415F-9B0A-06C0B0FDF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3A66-6332-4707-84E5-48BD3E44A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E7A9-1BF2-41E5-B03C-86D06703A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067C-1F17-4A78-9201-E2C360C83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BE49-8243-424F-8C9A-0718877F4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4422-4E85-44F1-9DA6-C119995BA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2C4D-2F60-4B8A-8628-1359539F8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128C-FB4F-49E6-96EC-98C1ACEE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960B-6DC8-4CDA-8E53-25735426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02453-5779-4E13-B144-6050A99FFB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image" Target="../media/image16.jpeg"/><Relationship Id="rId12" Type="http://schemas.openxmlformats.org/officeDocument/2006/relationships/image" Target="../media/image17.jpeg"/><Relationship Id="rId13" Type="http://schemas.openxmlformats.org/officeDocument/2006/relationships/image" Target="../media/image18.jpe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image" Target="../media/image21.png"/><Relationship Id="rId17" Type="http://schemas.openxmlformats.org/officeDocument/2006/relationships/image" Target="../media/image22.png"/><Relationship Id="rId18" Type="http://schemas.openxmlformats.org/officeDocument/2006/relationships/image" Target="../media/image23.jpeg"/><Relationship Id="rId19" Type="http://schemas.openxmlformats.org/officeDocument/2006/relationships/image" Target="../media/image24.png"/><Relationship Id="rId20" Type="http://schemas.openxmlformats.org/officeDocument/2006/relationships/image" Target="../media/image25.png"/><Relationship Id="rId21" Type="http://schemas.openxmlformats.org/officeDocument/2006/relationships/image" Target="../media/image26.png"/><Relationship Id="rId22" Type="http://schemas.openxmlformats.org/officeDocument/2006/relationships/image" Target="../media/image27.png"/><Relationship Id="rId23" Type="http://schemas.openxmlformats.org/officeDocument/2006/relationships/image" Target="../media/image28.png"/><Relationship Id="rId2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071720" y="500040"/>
            <a:ext cx="7929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8800" spc="-1" strike="noStrike">
                <a:solidFill>
                  <a:srgbClr val="77933c"/>
                </a:solidFill>
                <a:latin typeface="Arial Black"/>
                <a:ea typeface="Aharoni"/>
              </a:rPr>
              <a:t>AGRARNA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8800" spc="-1" strike="noStrike">
                <a:solidFill>
                  <a:srgbClr val="ff0000"/>
                </a:solidFill>
                <a:latin typeface="Arial Black"/>
                <a:ea typeface="Aharoni"/>
              </a:rPr>
              <a:t>POLITIKA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254061"/>
                </a:solidFill>
                <a:latin typeface="Arial Black"/>
                <a:ea typeface="Aharoni"/>
              </a:rPr>
              <a:t>EU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879504"/>
                </a:solidFill>
                <a:latin typeface="Calibri"/>
              </a:rPr>
              <a:t>Zašto udeo poljoprivrede opada tokom ekonomskog razvoja</a:t>
            </a:r>
            <a:r>
              <a:rPr b="0" lang="tr-TR" sz="3200" spc="-1" strike="noStrike">
                <a:solidFill>
                  <a:srgbClr val="879504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428480" y="1500120"/>
            <a:ext cx="7429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Dohodovno neelastična tražnja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za hranom: rastom dohotka po glavi stanovnika, opada udeo izdataka za ishranu u domaćinsvu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Engelov zakon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: rastom dohotka po glavi stanovnika, proporcija dohotka potrošenog na hranu relativno opada u odnosu na druge proizvod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1428480" y="428760"/>
            <a:ext cx="7429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Kako tražnja domaćinstava za hranom opada u odnosu na druge proizvode, relativne cene hrane opadaj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Migracija faktora proizvodnje iz poljoprivrede u druge delatnosti (rada i kapitala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Udeo poljoprivrede opada tokom razvojnog proces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428840" y="214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koro uvek, udeo poljoprivrede opada 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Zaposleno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Bruto domaćem proizvod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Udelu izdataka za ishran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Calibri"/>
              </a:rPr>
              <a:t>Da li poljoprivredni proizvođači postaju siromašniji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?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Calibri"/>
              </a:rPr>
              <a:t>Da li se smanjuje broj poljoprivrednih proizvođača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itre 1"/>
          <p:cNvSpPr/>
          <p:nvPr/>
        </p:nvSpPr>
        <p:spPr>
          <a:xfrm>
            <a:off x="2714760" y="5500800"/>
            <a:ext cx="621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Calibri"/>
              </a:rPr>
              <a:t>Pokazatelji mesta i uloge poljoprivred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Content Placeholder 2"/>
          <p:cNvSpPr/>
          <p:nvPr/>
        </p:nvSpPr>
        <p:spPr>
          <a:xfrm>
            <a:off x="1692360" y="333360"/>
            <a:ext cx="70102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INDIKATORI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češće poljoprivrednog u ukupnom stanovništvu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češće poljoprivrede u formiranju bruto domaćeg proizvoda (BD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značaj poljoprivrede u spoljnotrgovinskoj razmeni, odnosno međunarodnoj trgovin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zastupljenost investicija u poljoprivredi i ukupnim privrednim investicijam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deo izdataka za ishranu u ukupnim izdacima za ličnu potrošnju domaćinst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itre 1"/>
          <p:cNvSpPr/>
          <p:nvPr/>
        </p:nvSpPr>
        <p:spPr>
          <a:xfrm>
            <a:off x="2714760" y="5500800"/>
            <a:ext cx="621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Calibri"/>
              </a:rPr>
              <a:t>Pokazatelji mesta i uloge poljoprivred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"/>
          <p:cNvPicPr/>
          <p:nvPr/>
        </p:nvPicPr>
        <p:blipFill>
          <a:blip r:embed="rId1"/>
          <a:stretch/>
        </p:blipFill>
        <p:spPr>
          <a:xfrm>
            <a:off x="1928880" y="214200"/>
            <a:ext cx="6286320" cy="5096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itle 1"/>
          <p:cNvSpPr/>
          <p:nvPr/>
        </p:nvSpPr>
        <p:spPr>
          <a:xfrm>
            <a:off x="9144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itre 1"/>
          <p:cNvSpPr/>
          <p:nvPr/>
        </p:nvSpPr>
        <p:spPr>
          <a:xfrm>
            <a:off x="2714760" y="5500800"/>
            <a:ext cx="621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Calibri"/>
              </a:rPr>
              <a:t>Pokazatelji mesta i uloge poljoprivred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643040" y="428760"/>
            <a:ext cx="7067520" cy="4819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itle 1"/>
          <p:cNvSpPr/>
          <p:nvPr/>
        </p:nvSpPr>
        <p:spPr>
          <a:xfrm>
            <a:off x="914400" y="-2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itre 1"/>
          <p:cNvSpPr/>
          <p:nvPr/>
        </p:nvSpPr>
        <p:spPr>
          <a:xfrm>
            <a:off x="2714760" y="5500800"/>
            <a:ext cx="621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Calibri"/>
              </a:rPr>
              <a:t>Pokazatelji mesta i uloge poljoprivred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1"/>
          <a:stretch/>
        </p:blipFill>
        <p:spPr>
          <a:xfrm>
            <a:off x="1428840" y="214200"/>
            <a:ext cx="7072200" cy="5140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itre 1"/>
          <p:cNvSpPr/>
          <p:nvPr/>
        </p:nvSpPr>
        <p:spPr>
          <a:xfrm>
            <a:off x="2714760" y="5500800"/>
            <a:ext cx="621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Calibri"/>
              </a:rPr>
              <a:t>Agroindustrijski komple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 rot="60000">
            <a:off x="1662120" y="245880"/>
            <a:ext cx="6629400" cy="49719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5" descr="think-5.jpg"/>
          <p:cNvPicPr/>
          <p:nvPr/>
        </p:nvPicPr>
        <p:blipFill>
          <a:blip r:embed="rId1"/>
          <a:srcRect l="0" t="14587" r="0" b="12500"/>
          <a:stretch/>
        </p:blipFill>
        <p:spPr>
          <a:xfrm>
            <a:off x="0" y="2214720"/>
            <a:ext cx="9144000" cy="4643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Image result for mk group"/>
          <p:cNvPicPr/>
          <p:nvPr/>
        </p:nvPicPr>
        <p:blipFill>
          <a:blip r:embed="rId2"/>
          <a:srcRect l="30360" t="37082" r="32535" b="39327"/>
          <a:stretch/>
        </p:blipFill>
        <p:spPr>
          <a:xfrm>
            <a:off x="2000160" y="3143160"/>
            <a:ext cx="1684440" cy="714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Image result for bayer crop"/>
          <p:cNvPicPr/>
          <p:nvPr/>
        </p:nvPicPr>
        <p:blipFill>
          <a:blip r:embed="rId3"/>
          <a:stretch/>
        </p:blipFill>
        <p:spPr>
          <a:xfrm>
            <a:off x="714240" y="37861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Related image"/>
          <p:cNvPicPr/>
          <p:nvPr/>
        </p:nvPicPr>
        <p:blipFill>
          <a:blip r:embed="rId4"/>
          <a:stretch/>
        </p:blipFill>
        <p:spPr>
          <a:xfrm>
            <a:off x="785880" y="3000240"/>
            <a:ext cx="784080" cy="804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Related image"/>
          <p:cNvPicPr/>
          <p:nvPr/>
        </p:nvPicPr>
        <p:blipFill>
          <a:blip r:embed="rId5"/>
          <a:srcRect l="45006" t="49228" r="0" b="0"/>
          <a:stretch/>
        </p:blipFill>
        <p:spPr>
          <a:xfrm>
            <a:off x="785880" y="2214720"/>
            <a:ext cx="857160" cy="6825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Image result for raiffeisen agro"/>
          <p:cNvPicPr/>
          <p:nvPr/>
        </p:nvPicPr>
        <p:blipFill>
          <a:blip r:embed="rId6"/>
          <a:stretch/>
        </p:blipFill>
        <p:spPr>
          <a:xfrm>
            <a:off x="785880" y="135720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4" descr="Image result for delta agrar"/>
          <p:cNvPicPr/>
          <p:nvPr/>
        </p:nvPicPr>
        <p:blipFill>
          <a:blip r:embed="rId7"/>
          <a:stretch/>
        </p:blipFill>
        <p:spPr>
          <a:xfrm>
            <a:off x="2000160" y="3786120"/>
            <a:ext cx="1768680" cy="9288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6" descr="Image result for carnex"/>
          <p:cNvPicPr/>
          <p:nvPr/>
        </p:nvPicPr>
        <p:blipFill>
          <a:blip r:embed="rId8"/>
          <a:srcRect l="30472" t="12513" r="28519" b="12513"/>
          <a:stretch/>
        </p:blipFill>
        <p:spPr>
          <a:xfrm>
            <a:off x="4357800" y="3286080"/>
            <a:ext cx="763560" cy="785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8" descr="Related image"/>
          <p:cNvPicPr/>
          <p:nvPr/>
        </p:nvPicPr>
        <p:blipFill>
          <a:blip r:embed="rId9"/>
          <a:stretch/>
        </p:blipFill>
        <p:spPr>
          <a:xfrm>
            <a:off x="2071800" y="2286000"/>
            <a:ext cx="1747800" cy="738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0" descr="Related image"/>
          <p:cNvPicPr/>
          <p:nvPr/>
        </p:nvPicPr>
        <p:blipFill>
          <a:blip r:embed="rId10"/>
          <a:stretch/>
        </p:blipFill>
        <p:spPr>
          <a:xfrm>
            <a:off x="2071800" y="1214280"/>
            <a:ext cx="1500120" cy="814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0" descr="Imlek"/>
          <p:cNvPicPr/>
          <p:nvPr/>
        </p:nvPicPr>
        <p:blipFill>
          <a:blip r:embed="rId11"/>
          <a:stretch/>
        </p:blipFill>
        <p:spPr>
          <a:xfrm>
            <a:off x="4143240" y="2286000"/>
            <a:ext cx="1285920" cy="890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2" descr="Victoriaoil"/>
          <p:cNvPicPr/>
          <p:nvPr/>
        </p:nvPicPr>
        <p:blipFill>
          <a:blip r:embed="rId12"/>
          <a:stretch/>
        </p:blipFill>
        <p:spPr>
          <a:xfrm>
            <a:off x="642960" y="571680"/>
            <a:ext cx="1047600" cy="509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8" descr="Univerexport"/>
          <p:cNvPicPr/>
          <p:nvPr/>
        </p:nvPicPr>
        <p:blipFill>
          <a:blip r:embed="rId13"/>
          <a:stretch/>
        </p:blipFill>
        <p:spPr>
          <a:xfrm>
            <a:off x="5715000" y="4214880"/>
            <a:ext cx="1427040" cy="3045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4" descr="Industrija mesa Matijevi&amp;cacute;"/>
          <p:cNvPicPr/>
          <p:nvPr/>
        </p:nvPicPr>
        <p:blipFill>
          <a:blip r:embed="rId14"/>
          <a:stretch/>
        </p:blipFill>
        <p:spPr>
          <a:xfrm>
            <a:off x="2214720" y="642960"/>
            <a:ext cx="1346040" cy="395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2" descr="Image result for coca cola logo"/>
          <p:cNvPicPr/>
          <p:nvPr/>
        </p:nvPicPr>
        <p:blipFill>
          <a:blip r:embed="rId15"/>
          <a:stretch/>
        </p:blipFill>
        <p:spPr>
          <a:xfrm>
            <a:off x="4286160" y="121428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4" descr="Image result for carlsberg logo"/>
          <p:cNvPicPr/>
          <p:nvPr/>
        </p:nvPicPr>
        <p:blipFill>
          <a:blip r:embed="rId16"/>
          <a:stretch/>
        </p:blipFill>
        <p:spPr>
          <a:xfrm>
            <a:off x="3929040" y="4143240"/>
            <a:ext cx="1433520" cy="5810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6" descr="Related image"/>
          <p:cNvPicPr/>
          <p:nvPr/>
        </p:nvPicPr>
        <p:blipFill>
          <a:blip r:embed="rId17"/>
          <a:srcRect l="0" t="0" r="0" b="23522"/>
          <a:stretch/>
        </p:blipFill>
        <p:spPr>
          <a:xfrm>
            <a:off x="4143240" y="357120"/>
            <a:ext cx="1357560" cy="677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Резултат слика за horeca"/>
          <p:cNvPicPr/>
          <p:nvPr/>
        </p:nvPicPr>
        <p:blipFill>
          <a:blip r:embed="rId18"/>
          <a:stretch/>
        </p:blipFill>
        <p:spPr>
          <a:xfrm>
            <a:off x="7421400" y="3929040"/>
            <a:ext cx="1505160" cy="800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8" descr="Image result for lidl logo"/>
          <p:cNvPicPr/>
          <p:nvPr/>
        </p:nvPicPr>
        <p:blipFill>
          <a:blip r:embed="rId19"/>
          <a:stretch/>
        </p:blipFill>
        <p:spPr>
          <a:xfrm>
            <a:off x="6000840" y="3000240"/>
            <a:ext cx="880920" cy="881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0" descr="Image result for maxi logo"/>
          <p:cNvPicPr/>
          <p:nvPr/>
        </p:nvPicPr>
        <p:blipFill>
          <a:blip r:embed="rId20"/>
          <a:srcRect l="0" t="23600" r="0" b="24159"/>
          <a:stretch/>
        </p:blipFill>
        <p:spPr>
          <a:xfrm>
            <a:off x="5643720" y="2286000"/>
            <a:ext cx="1571400" cy="4557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6" descr="Image result for idea market logo"/>
          <p:cNvPicPr/>
          <p:nvPr/>
        </p:nvPicPr>
        <p:blipFill>
          <a:blip r:embed="rId21"/>
          <a:stretch/>
        </p:blipFill>
        <p:spPr>
          <a:xfrm>
            <a:off x="5715000" y="1428840"/>
            <a:ext cx="1357200" cy="512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8" descr="Related image"/>
          <p:cNvPicPr/>
          <p:nvPr/>
        </p:nvPicPr>
        <p:blipFill>
          <a:blip r:embed="rId22"/>
          <a:stretch/>
        </p:blipFill>
        <p:spPr>
          <a:xfrm>
            <a:off x="5929200" y="35712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4" descr="Image result for man ate  illustration"/>
          <p:cNvPicPr/>
          <p:nvPr/>
        </p:nvPicPr>
        <p:blipFill>
          <a:blip r:embed="rId23"/>
          <a:stretch/>
        </p:blipFill>
        <p:spPr>
          <a:xfrm>
            <a:off x="7572240" y="1785960"/>
            <a:ext cx="1289160" cy="2082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71400" y="1571400"/>
            <a:ext cx="732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d0d0d"/>
                </a:solidFill>
                <a:latin typeface="Calibri"/>
              </a:rPr>
              <a:t>HVALA VAM NA PAŽNJI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itle 3"/>
          <p:cNvSpPr/>
          <p:nvPr/>
        </p:nvSpPr>
        <p:spPr>
          <a:xfrm>
            <a:off x="1547640" y="4149720"/>
            <a:ext cx="73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d0d0d"/>
                </a:solidFill>
                <a:latin typeface="Calibri"/>
              </a:rPr>
              <a:t>bojan.matkovski@ef.uns.ac.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1476360" y="1052640"/>
          <a:ext cx="6840720" cy="3343320"/>
        </p:xfrm>
        <a:graphic>
          <a:graphicData uri="http://schemas.openxmlformats.org/drawingml/2006/table">
            <a:tbl>
              <a:tblPr/>
              <a:tblGrid>
                <a:gridCol w="5040360"/>
                <a:gridCol w="1800360"/>
              </a:tblGrid>
              <a:tr h="55692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800" spc="-1" strike="noStrike">
                          <a:solidFill>
                            <a:srgbClr val="879504"/>
                          </a:solidFill>
                          <a:latin typeface="Arial Black"/>
                          <a:ea typeface="Times New Roman"/>
                        </a:rPr>
                        <a:t>I </a:t>
                      </a:r>
                      <a:r>
                        <a:rPr b="1" lang="sr-Latn-RS" sz="2800" spc="-1" strike="noStrike">
                          <a:solidFill>
                            <a:srgbClr val="879504"/>
                          </a:solidFill>
                          <a:latin typeface="Arial Black"/>
                          <a:ea typeface="Times New Roman"/>
                        </a:rPr>
                        <a:t>KOLOKVIJ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800" spc="-1" strike="noStrike">
                          <a:solidFill>
                            <a:srgbClr val="879504"/>
                          </a:solidFill>
                          <a:latin typeface="Arial Black"/>
                          <a:ea typeface="Times New Roman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800" spc="-1" strike="noStrike">
                          <a:solidFill>
                            <a:srgbClr val="879504"/>
                          </a:solidFill>
                          <a:latin typeface="Arial Black"/>
                          <a:ea typeface="Times New Roman"/>
                        </a:rPr>
                        <a:t>II </a:t>
                      </a:r>
                      <a:r>
                        <a:rPr b="1" lang="sr-Latn-RS" sz="2800" spc="-1" strike="noStrike">
                          <a:solidFill>
                            <a:srgbClr val="879504"/>
                          </a:solidFill>
                          <a:latin typeface="Arial Black"/>
                          <a:ea typeface="Times New Roman"/>
                        </a:rPr>
                        <a:t>KOLOKVIJ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>
                      <a:noFill/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800" spc="-1" strike="noStrike">
                          <a:solidFill>
                            <a:srgbClr val="879504"/>
                          </a:solidFill>
                          <a:latin typeface="Arial Black"/>
                          <a:ea typeface="Times New Roman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>
                      <a:noFill/>
                    </a:lnB>
                    <a:solidFill>
                      <a:srgbClr val="d2eaf1"/>
                    </a:solidFill>
                  </a:tcPr>
                </a:tc>
              </a:tr>
              <a:tr h="5572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28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PRISTUPNI R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8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72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28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AKTIVN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8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2eaf1"/>
                    </a:solidFill>
                  </a:tcPr>
                </a:tc>
              </a:tr>
              <a:tr h="5572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2800" spc="-1" strike="noStrike">
                          <a:solidFill>
                            <a:srgbClr val="879504"/>
                          </a:solidFill>
                          <a:latin typeface="Arial Black"/>
                          <a:ea typeface="Times New Roman"/>
                        </a:rPr>
                        <a:t>USMENI ISP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800" spc="-1" strike="noStrike">
                          <a:solidFill>
                            <a:srgbClr val="879504"/>
                          </a:solidFill>
                          <a:latin typeface="Arial Black"/>
                          <a:ea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72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2800" spc="-1" strike="noStrike">
                          <a:solidFill>
                            <a:srgbClr val="879504"/>
                          </a:solidFill>
                          <a:latin typeface="Arial Black"/>
                          <a:ea typeface="Times New Roman"/>
                        </a:rPr>
                        <a:t>UKUP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800" spc="-1" strike="noStrike">
                          <a:solidFill>
                            <a:srgbClr val="879504"/>
                          </a:solidFill>
                          <a:latin typeface="Arial Black"/>
                          <a:ea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2eaf1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Espace réservé du contenu 2"/>
          <p:cNvSpPr/>
          <p:nvPr/>
        </p:nvSpPr>
        <p:spPr>
          <a:xfrm>
            <a:off x="1428840" y="404640"/>
            <a:ext cx="7358040" cy="43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879504"/>
                </a:solidFill>
                <a:latin typeface="Arial Black"/>
              </a:rPr>
              <a:t>I </a:t>
            </a:r>
            <a:r>
              <a:rPr b="1" lang="sr-Latn-RS" sz="3600" spc="-1" strike="noStrike">
                <a:solidFill>
                  <a:srgbClr val="879504"/>
                </a:solidFill>
                <a:latin typeface="Arial Black"/>
              </a:rPr>
              <a:t>KOLOKVIJ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UVOD U EKONOMIKU POLJOPRIVRE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POLJOPRIVREDA I PRIVREDNI RAZVO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SPECIFIČNOSTI POLJOPRIVRE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DINAMIKA RASTA AGREGATNE TRAŽ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3"/>
          <p:cNvSpPr/>
          <p:nvPr/>
        </p:nvSpPr>
        <p:spPr>
          <a:xfrm>
            <a:off x="1357200" y="333360"/>
            <a:ext cx="7072560" cy="37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879504"/>
                </a:solidFill>
                <a:latin typeface="Arial Black"/>
              </a:rPr>
              <a:t>II </a:t>
            </a:r>
            <a:r>
              <a:rPr b="1" lang="sr-Latn-RS" sz="3600" spc="-1" strike="noStrike">
                <a:solidFill>
                  <a:srgbClr val="879504"/>
                </a:solidFill>
                <a:latin typeface="Arial Black"/>
              </a:rPr>
              <a:t>KOLOKVIJ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AGRARNA POLIT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MEĐUNARODNA TRGOVINA I TRGOVINSKA POLITIKA POLJOPRIVREDNIM PROIZVOD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3"/>
          <p:cNvSpPr/>
          <p:nvPr/>
        </p:nvSpPr>
        <p:spPr>
          <a:xfrm>
            <a:off x="1357200" y="333360"/>
            <a:ext cx="7572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600" spc="-1" strike="noStrike">
                <a:solidFill>
                  <a:srgbClr val="879504"/>
                </a:solidFill>
                <a:latin typeface="Arial Black"/>
              </a:rPr>
              <a:t>USMENI ISP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Arial"/>
              </a:rPr>
              <a:t>ZAJEDNIČKA AGRARNA POLITIKA ZEMALJA 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TRANZICIJA AGRARNOG SEKTORA I INTEGRACIJA ZEMALJA CENTRALNE I ISTOČNE EVR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itre 1"/>
          <p:cNvSpPr/>
          <p:nvPr/>
        </p:nvSpPr>
        <p:spPr>
          <a:xfrm>
            <a:off x="2714760" y="5500800"/>
            <a:ext cx="621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Calibri"/>
              </a:rPr>
              <a:t>Definisanje poljoprivre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1500120" y="285840"/>
            <a:ext cx="731376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Poljoprivreda je jednostavna proizvodnja sirovih produkata ili proizvodnja koja prerađivačkoj industriji isporučuje sirovi materijal” </a:t>
            </a:r>
            <a:r>
              <a:rPr b="1" lang="sr-Latn-CS" sz="2000" spc="-1" strike="noStrike">
                <a:solidFill>
                  <a:srgbClr val="4f6228"/>
                </a:solidFill>
                <a:latin typeface="Calibri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c2261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8795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79504"/>
                </a:solidFill>
                <a:latin typeface="Calibri"/>
              </a:rPr>
              <a:t>“</a:t>
            </a:r>
            <a:r>
              <a:rPr b="1" lang="sr-Latn-CS" sz="2000" spc="-1" strike="noStrike">
                <a:solidFill>
                  <a:srgbClr val="879504"/>
                </a:solidFill>
                <a:latin typeface="Calibri"/>
              </a:rPr>
              <a:t>Poljoprivreda je oblast proizvodnje u kojoj se proizvode, dorađuju ili prerađuju primarni proizvodi biljnog i životinjskog porekla radi zadovoljenja određenih čovekovih potreba”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U okviru opšteg pristupa definisanju poljoprivrede razlikujemo dva gledišt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Definicije koje uključuju samo primarnu poljoprivrednu proizvodnj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Definicije koje modernu poljoprivredu izjednačavaju sa agrobiznis kompleks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700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4f6228"/>
                </a:solidFill>
                <a:latin typeface="Calibri"/>
              </a:rPr>
              <a:t>Širina poimanja poljoprivrede određena je stepenom opšte razvijenosti zeml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1360440" y="214200"/>
            <a:ext cx="7569360" cy="46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4f6228"/>
                </a:solidFill>
                <a:latin typeface="Calibri"/>
              </a:rPr>
              <a:t>Proizvodno-tehnološki i organizacioni pristu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</a:rPr>
              <a:t>Da li poljoprivreda obuhvata samo primarnu proizvodnju ili objedinjava međusobno povezane delatnosti primarnog, sekundarnog i tercijalnog sektor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4f6228"/>
                </a:solidFill>
                <a:latin typeface="Calibri"/>
              </a:rPr>
              <a:t>Poslovno-pofesionalni pristu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sr-Latn-CS" sz="1800" spc="-1" strike="noStrike">
                <a:solidFill>
                  <a:srgbClr val="000000"/>
                </a:solidFill>
                <a:latin typeface="Calibri"/>
              </a:rPr>
              <a:t>Da li je poljoprivreda način života ili biznis kao i svaki drugi biznis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4f6228"/>
                </a:solidFill>
                <a:latin typeface="Calibri"/>
              </a:rPr>
              <a:t>Radno-kultni pristu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</a:rPr>
              <a:t>Da li poljoprivrednici imaju “urođeni” pristup svome posl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4f6228"/>
                </a:solidFill>
                <a:latin typeface="Calibri"/>
              </a:rPr>
              <a:t>Ekološko-patriotsk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sr-Latn-CS" sz="1800" spc="-1" strike="noStrike">
                <a:solidFill>
                  <a:srgbClr val="000000"/>
                </a:solidFill>
                <a:latin typeface="Calibri"/>
              </a:rPr>
              <a:t>Da li poljoprivreda vodi računa o ravnoteži na relaciji čovek-priroda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4f6228"/>
                </a:solidFill>
                <a:latin typeface="Calibri"/>
              </a:rPr>
              <a:t>Agro-globalistički pristu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</a:rPr>
              <a:t>Da li konvencionalna poljoprivreda može na adekvatan način da odgovori izazovima globalnog problema na relaciji “hrana-siromaštvo-populacija”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tre 1"/>
          <p:cNvSpPr/>
          <p:nvPr/>
        </p:nvSpPr>
        <p:spPr>
          <a:xfrm>
            <a:off x="2714760" y="5500800"/>
            <a:ext cx="621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Calibri"/>
              </a:rPr>
              <a:t>Različiti pristupi definisanja poljoprivre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879504"/>
                </a:solidFill>
                <a:latin typeface="Calibri"/>
              </a:rPr>
              <a:t>Ekonomika poljoprivre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499760" y="1928880"/>
            <a:ext cx="735804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Kako proizvođači, potrošači i društvo koriste ograničene resurse u proizvodnji, preradi, marketingu i potrošnji hran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356840" y="285840"/>
            <a:ext cx="7572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Funkcija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1: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Obezbeđenje hrane za stanovništv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Funkcija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2: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roizvodnja sirovina za industrij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Funkcija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3: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Izvor radne snage za druge delatno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Funkcija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4: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Izvor kapitala za druge delatno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Funkcija 5: Formiranje unutrašnjeg tržišta za industrijske proizvod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Funkcija 6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Uravnoteženje platnog i trgovinskog bilan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itre 1"/>
          <p:cNvSpPr/>
          <p:nvPr/>
        </p:nvSpPr>
        <p:spPr>
          <a:xfrm>
            <a:off x="2714760" y="5500800"/>
            <a:ext cx="621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Calibri"/>
              </a:rPr>
              <a:t>Funkcije poljoprivre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3T13:52:42Z</dcterms:created>
  <dc:creator>User</dc:creator>
  <dc:description/>
  <dc:language>en-US</dc:language>
  <cp:lastModifiedBy>Dragana</cp:lastModifiedBy>
  <dcterms:modified xsi:type="dcterms:W3CDTF">2020-03-24T07:00:05Z</dcterms:modified>
  <cp:revision>120</cp:revision>
  <dc:subject/>
  <dc:title>EKOLOŠKI PROBLEMI POLJOPRIVREDNE PROIZVODNJE I RURALNOG RAZVOJA</dc:title>
</cp:coreProperties>
</file>