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EFB-5B2A-4B67-949B-36DC0E99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740-96B8-4118-B51A-E372C487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8FE-0440-475C-BB24-A9864083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6ED-68C4-4BCA-868F-1480CAF5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D9D-DBF8-489A-B94C-53737A51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2EB-15FB-41A3-9DC1-39FE513A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4AF-4D20-4B4B-9043-D60BB3F8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67C-42D6-4D93-B249-1AA63BD5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0A6-9E9C-4470-8794-A7D12265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06F-9A7E-4147-8FCD-FF935861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A59-DC8E-4471-A274-A2A6BA99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A2F-CE5C-46C5-8EC0-ED4E554B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B911-E107-4781-8366-9B92B69C1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71720" y="50004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77933c"/>
                </a:solidFill>
                <a:latin typeface="Arial Black"/>
                <a:ea typeface="Aharoni"/>
              </a:rPr>
              <a:t>AGRARN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ff0000"/>
                </a:solidFill>
                <a:latin typeface="Arial Black"/>
                <a:ea typeface="Aharoni"/>
              </a:rPr>
              <a:t>POLITIK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254061"/>
                </a:solidFill>
                <a:latin typeface="Arial Black"/>
                <a:ea typeface="Aharoni"/>
              </a:rPr>
              <a:t>E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Rounded Rectangle 3"/>
          <p:cNvGrpSpPr/>
          <p:nvPr/>
        </p:nvGrpSpPr>
        <p:grpSpPr>
          <a:xfrm>
            <a:off x="1420920" y="347760"/>
            <a:ext cx="3638520" cy="1285920"/>
            <a:chOff x="1420920" y="347760"/>
            <a:chExt cx="3638520" cy="1285920"/>
          </a:xfrm>
        </p:grpSpPr>
        <p:pic>
          <p:nvPicPr>
            <p:cNvPr id="66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1420920" y="347760"/>
              <a:ext cx="36385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517760" y="519120"/>
              <a:ext cx="34448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2800" spc="-1" strike="noStrike">
                  <a:solidFill>
                    <a:srgbClr val="ffffff"/>
                  </a:solidFill>
                  <a:latin typeface="Calibri"/>
                </a:rPr>
                <a:t>KVANTITATIVNI NEDOSTATA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ounded Rectangle 4"/>
          <p:cNvGrpSpPr/>
          <p:nvPr/>
        </p:nvGrpSpPr>
        <p:grpSpPr>
          <a:xfrm>
            <a:off x="5089680" y="2944800"/>
            <a:ext cx="3639960" cy="1279440"/>
            <a:chOff x="5089680" y="2944800"/>
            <a:chExt cx="3639960" cy="1279440"/>
          </a:xfrm>
        </p:grpSpPr>
        <p:pic>
          <p:nvPicPr>
            <p:cNvPr id="69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5089680" y="2944800"/>
              <a:ext cx="36399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189400" y="3111480"/>
              <a:ext cx="34448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2800" spc="-1" strike="noStrike">
                  <a:solidFill>
                    <a:srgbClr val="ffffff"/>
                  </a:solidFill>
                  <a:latin typeface="Calibri"/>
                </a:rPr>
                <a:t>KVALITITAIVNI NEDOSTATA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ounded Rectangle 6"/>
          <p:cNvSpPr/>
          <p:nvPr/>
        </p:nvSpPr>
        <p:spPr>
          <a:xfrm>
            <a:off x="1476360" y="1413000"/>
            <a:ext cx="712800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nje neishranjenosti u kalorijama, koje ako potraje duži rok može dovesti do gubitka u težini ili smanjene mogućnosti fizičke aktiv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7"/>
          <p:cNvSpPr/>
          <p:nvPr/>
        </p:nvSpPr>
        <p:spPr>
          <a:xfrm>
            <a:off x="1547640" y="4005360"/>
            <a:ext cx="7128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njka jedna ili više esencijalnih komponenti prehrane, što dovodi do specifičnih bole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8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619280" y="47628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 dužem vremenskom periodu mora se izjednačiti utrošena energija ljudskog bića sa sa onom što je organizam pri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627280" y="5300640"/>
            <a:ext cx="5473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5"/>
          <p:cNvSpPr/>
          <p:nvPr/>
        </p:nvSpPr>
        <p:spPr>
          <a:xfrm>
            <a:off x="1908000" y="2276640"/>
            <a:ext cx="6624720" cy="25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bazalni metaboliz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fizička a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specijalna dinamička ak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potrebe u energ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Kvantitativne 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ounded Rectangle 7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gwil40121"/>
          <p:cNvPicPr/>
          <p:nvPr/>
        </p:nvPicPr>
        <p:blipFill>
          <a:blip r:embed="rId1"/>
          <a:stretch/>
        </p:blipFill>
        <p:spPr>
          <a:xfrm>
            <a:off x="395280" y="1052640"/>
            <a:ext cx="3889440" cy="3889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1258920" y="549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484360" y="472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contenu 2"/>
          <p:cNvSpPr/>
          <p:nvPr/>
        </p:nvSpPr>
        <p:spPr>
          <a:xfrm>
            <a:off x="3527280" y="476280"/>
            <a:ext cx="561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zam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17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 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 u poljoprivred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200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s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 h odmor – 20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 na s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 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5940360" y="3573360"/>
            <a:ext cx="3203640" cy="1556280"/>
            <a:chOff x="5940360" y="3573360"/>
            <a:chExt cx="3203640" cy="1556280"/>
          </a:xfrm>
        </p:grpSpPr>
        <p:pic>
          <p:nvPicPr>
            <p:cNvPr id="84" name="Picture 10" descr="400px-Greek_uc_sigma_svg"/>
            <p:cNvPicPr/>
            <p:nvPr/>
          </p:nvPicPr>
          <p:blipFill>
            <a:blip r:embed="rId2"/>
            <a:stretch/>
          </p:blipFill>
          <p:spPr>
            <a:xfrm>
              <a:off x="5940360" y="3765600"/>
              <a:ext cx="79236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4"/>
            <p:cNvSpPr/>
            <p:nvPr/>
          </p:nvSpPr>
          <p:spPr>
            <a:xfrm>
              <a:off x="6912000" y="3573360"/>
              <a:ext cx="2232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4f6228"/>
                  </a:solidFill>
                  <a:latin typeface="Arial"/>
                </a:rPr>
                <a:t>346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4f6228"/>
                  </a:solidFill>
                  <a:latin typeface="Arial"/>
                </a:rPr>
                <a:t> </a:t>
              </a:r>
              <a:r>
                <a:rPr b="1" lang="sr-Latn-CS" sz="4800" spc="-1" strike="noStrike">
                  <a:solidFill>
                    <a:srgbClr val="4f6228"/>
                  </a:solidFill>
                  <a:latin typeface="Arial"/>
                </a:rPr>
                <a:t>kcal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itle 1"/>
          <p:cNvSpPr/>
          <p:nvPr/>
        </p:nvSpPr>
        <p:spPr>
          <a:xfrm>
            <a:off x="6112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Kvantitativne 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2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7424640" cy="4537080"/>
          </a:xfrm>
          <a:prstGeom prst="rect">
            <a:avLst/>
          </a:prstGeom>
          <a:ln w="0">
            <a:noFill/>
          </a:ln>
        </p:spPr>
      </p:pic>
      <p:sp>
        <p:nvSpPr>
          <p:cNvPr id="89" name="Title 1"/>
          <p:cNvSpPr/>
          <p:nvPr/>
        </p:nvSpPr>
        <p:spPr>
          <a:xfrm>
            <a:off x="6112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Kvantitativne 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56108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Rounded Rectangle 5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258560" y="764640"/>
            <a:ext cx="7581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9504"/>
                </a:solidFill>
                <a:latin typeface="Calibri"/>
              </a:rPr>
              <a:t>Deklaracija Svetskog samita o hrani (FAO 1996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AVO SVAKOG POJEDINCA, DA U SVAKO DOBA, IMA OBEZBEĐEN PRISTUP (DOVOLJNIM KOLIČINAMA) ZDRAVSTVENO BEZBEDNOJ I KVALITETNOJ HRANI, A ŠTO JE U SKLADU SA PRAVOM NA ADEKVATNU ISHRANU I PRAVOM SVAKOG LJUDSKOG BIĆA DA BUDE ZAŠTIĆENO OD GLAD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Prehrambena sigurno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Prehrambena sigurno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31640" y="620280"/>
            <a:ext cx="7581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4 načina za povećanje proizvodnje hr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INTENZIFIKACIJA POLJOPRIVREDNE PROIZVODN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POVEĆANJE POLJOPRIVREDNIH POVRŠIN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KORIŠĆENJEM SAVREMENIH SREDSTAVA ZA PROIZVODNJU U POLJOPRIVRED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BIOTEHNOLOGIJA (GENETIČKI INŽINJERI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Faktori agregatne 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iagram 5" descr=""/>
          <p:cNvPicPr/>
          <p:nvPr/>
        </p:nvPicPr>
        <p:blipFill>
          <a:blip r:embed="rId1"/>
          <a:stretch/>
        </p:blipFill>
        <p:spPr>
          <a:xfrm>
            <a:off x="2182680" y="517680"/>
            <a:ext cx="6120000" cy="410364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STANOVNIŠ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sqi"/>
          <p:cNvPicPr/>
          <p:nvPr/>
        </p:nvPicPr>
        <p:blipFill>
          <a:blip r:embed="rId1"/>
          <a:stretch/>
        </p:blipFill>
        <p:spPr>
          <a:xfrm>
            <a:off x="3203640" y="2492280"/>
            <a:ext cx="4086000" cy="2500560"/>
          </a:xfrm>
          <a:prstGeom prst="rect">
            <a:avLst/>
          </a:prstGeom>
          <a:ln w="0">
            <a:noFill/>
          </a:ln>
        </p:spPr>
      </p:pic>
      <p:grpSp>
        <p:nvGrpSpPr>
          <p:cNvPr id="105" name="Up Arrow 5"/>
          <p:cNvGrpSpPr/>
          <p:nvPr/>
        </p:nvGrpSpPr>
        <p:grpSpPr>
          <a:xfrm>
            <a:off x="1566720" y="371520"/>
            <a:ext cx="828720" cy="903240"/>
            <a:chOff x="1566720" y="371520"/>
            <a:chExt cx="828720" cy="903240"/>
          </a:xfrm>
        </p:grpSpPr>
        <p:pic>
          <p:nvPicPr>
            <p:cNvPr id="106" name="Up Arrow 5" descr=""/>
            <p:cNvPicPr/>
            <p:nvPr/>
          </p:nvPicPr>
          <p:blipFill>
            <a:blip r:embed="rId2"/>
            <a:stretch/>
          </p:blipFill>
          <p:spPr>
            <a:xfrm>
              <a:off x="1566720" y="371520"/>
              <a:ext cx="828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800360" y="584280"/>
              <a:ext cx="3585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itre 1"/>
          <p:cNvSpPr/>
          <p:nvPr/>
        </p:nvSpPr>
        <p:spPr>
          <a:xfrm>
            <a:off x="2050920" y="40464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Broja stanovn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Up Arrow 7"/>
          <p:cNvGrpSpPr/>
          <p:nvPr/>
        </p:nvGrpSpPr>
        <p:grpSpPr>
          <a:xfrm>
            <a:off x="3943440" y="1384200"/>
            <a:ext cx="830160" cy="901800"/>
            <a:chOff x="3943440" y="1384200"/>
            <a:chExt cx="830160" cy="901800"/>
          </a:xfrm>
        </p:grpSpPr>
        <p:pic>
          <p:nvPicPr>
            <p:cNvPr id="110" name="Up Arrow 7" descr=""/>
            <p:cNvPicPr/>
            <p:nvPr/>
          </p:nvPicPr>
          <p:blipFill>
            <a:blip r:embed="rId3"/>
            <a:stretch/>
          </p:blipFill>
          <p:spPr>
            <a:xfrm>
              <a:off x="3943440" y="1384200"/>
              <a:ext cx="8301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176720" y="1592280"/>
              <a:ext cx="358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itre 1"/>
          <p:cNvSpPr/>
          <p:nvPr/>
        </p:nvSpPr>
        <p:spPr>
          <a:xfrm>
            <a:off x="4427640" y="141300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Agregatne 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OHO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476360" y="260280"/>
            <a:ext cx="734364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zuzetak su tzv. </a:t>
            </a:r>
            <a:r>
              <a:rPr b="0" i="1" lang="sr-Latn-CS" sz="2800" spc="-1" strike="noStrike">
                <a:solidFill>
                  <a:srgbClr val="879504"/>
                </a:solidFill>
                <a:latin typeface="Calibri"/>
              </a:rPr>
              <a:t>inferiorni prehrambeni proizvodi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– hleb, krompir, pirinač i sl., gde porast dohotka uzrokuje pad tražnje za nj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i većim nivoima dohotka dolazi do kvalitativnih promena u ishrani ka “kvalitetnijim” prehrambenim proizvod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Up Arrow 4"/>
          <p:cNvGrpSpPr/>
          <p:nvPr/>
        </p:nvGrpSpPr>
        <p:grpSpPr>
          <a:xfrm>
            <a:off x="1566720" y="371520"/>
            <a:ext cx="828720" cy="903240"/>
            <a:chOff x="1566720" y="371520"/>
            <a:chExt cx="828720" cy="903240"/>
          </a:xfrm>
        </p:grpSpPr>
        <p:pic>
          <p:nvPicPr>
            <p:cNvPr id="117" name="Up Arrow 4" descr=""/>
            <p:cNvPicPr/>
            <p:nvPr/>
          </p:nvPicPr>
          <p:blipFill>
            <a:blip r:embed="rId1"/>
            <a:stretch/>
          </p:blipFill>
          <p:spPr>
            <a:xfrm>
              <a:off x="1566720" y="371520"/>
              <a:ext cx="828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800360" y="584280"/>
              <a:ext cx="3585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itre 1"/>
          <p:cNvSpPr/>
          <p:nvPr/>
        </p:nvSpPr>
        <p:spPr>
          <a:xfrm>
            <a:off x="2050920" y="404640"/>
            <a:ext cx="288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Doh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Up Arrow 7"/>
          <p:cNvGrpSpPr/>
          <p:nvPr/>
        </p:nvGrpSpPr>
        <p:grpSpPr>
          <a:xfrm>
            <a:off x="3943440" y="1384200"/>
            <a:ext cx="830160" cy="901800"/>
            <a:chOff x="3943440" y="1384200"/>
            <a:chExt cx="830160" cy="901800"/>
          </a:xfrm>
        </p:grpSpPr>
        <p:pic>
          <p:nvPicPr>
            <p:cNvPr id="121" name="Up Arrow 7" descr=""/>
            <p:cNvPicPr/>
            <p:nvPr/>
          </p:nvPicPr>
          <p:blipFill>
            <a:blip r:embed="rId2"/>
            <a:stretch/>
          </p:blipFill>
          <p:spPr>
            <a:xfrm>
              <a:off x="3943440" y="1384200"/>
              <a:ext cx="8301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176720" y="1592280"/>
              <a:ext cx="358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itre 1"/>
          <p:cNvSpPr/>
          <p:nvPr/>
        </p:nvSpPr>
        <p:spPr>
          <a:xfrm>
            <a:off x="4427640" y="141300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Agregatne 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itre 1"/>
          <p:cNvSpPr/>
          <p:nvPr/>
        </p:nvSpPr>
        <p:spPr>
          <a:xfrm>
            <a:off x="2050920" y="213372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4f6228"/>
                </a:solidFill>
                <a:latin typeface="Calibri"/>
              </a:rPr>
              <a:t>Poljoprivreda i privredni razvo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OHO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476360" y="333360"/>
            <a:ext cx="7416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ticaj dohotka na agregatnu tražnju za preh. proizvodima determinisan je visinom koeficijenta dohodovne elastičnosti traž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Dohodovna elastičnost tražnje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 predstavlja procenat promene tražnje s postotkom promene dohot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Ed kod prehrambenih proizvoda je relativno niska - manja o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ražnja za prehrambenim proizvodima je relativno neelastična na promenu dohot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5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02920" y="314172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zuzetak su </a:t>
            </a:r>
            <a:r>
              <a:rPr b="0" i="1" lang="sr-Latn-CS" sz="3200" spc="-1" strike="noStrike">
                <a:solidFill>
                  <a:srgbClr val="879504"/>
                </a:solidFill>
                <a:latin typeface="Calibri"/>
              </a:rPr>
              <a:t>inferiorni prehrambeni proizvodi</a:t>
            </a:r>
            <a:r>
              <a:rPr b="0" lang="sr-Latn-CS" sz="3200" spc="-1" strike="noStrike">
                <a:solidFill>
                  <a:srgbClr val="879504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a kojim pri porastu opšteg nivoa cena hrane raste tražnja usled smanjenja tražnje za visoko vrednim i relativno skupljim proizvodima – me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Up Arrow 6"/>
          <p:cNvGrpSpPr/>
          <p:nvPr/>
        </p:nvGrpSpPr>
        <p:grpSpPr>
          <a:xfrm>
            <a:off x="1566720" y="371520"/>
            <a:ext cx="828720" cy="903240"/>
            <a:chOff x="1566720" y="371520"/>
            <a:chExt cx="828720" cy="903240"/>
          </a:xfrm>
        </p:grpSpPr>
        <p:pic>
          <p:nvPicPr>
            <p:cNvPr id="131" name="Up Arrow 6" descr=""/>
            <p:cNvPicPr/>
            <p:nvPr/>
          </p:nvPicPr>
          <p:blipFill>
            <a:blip r:embed="rId1"/>
            <a:stretch/>
          </p:blipFill>
          <p:spPr>
            <a:xfrm>
              <a:off x="1566720" y="371520"/>
              <a:ext cx="828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800360" y="584280"/>
              <a:ext cx="3585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itre 1"/>
          <p:cNvSpPr/>
          <p:nvPr/>
        </p:nvSpPr>
        <p:spPr>
          <a:xfrm>
            <a:off x="2050920" y="404640"/>
            <a:ext cx="23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Up Arrow 8"/>
          <p:cNvGrpSpPr/>
          <p:nvPr/>
        </p:nvGrpSpPr>
        <p:grpSpPr>
          <a:xfrm>
            <a:off x="3938760" y="1371600"/>
            <a:ext cx="828360" cy="907920"/>
            <a:chOff x="3938760" y="1371600"/>
            <a:chExt cx="828360" cy="907920"/>
          </a:xfrm>
        </p:grpSpPr>
        <p:pic>
          <p:nvPicPr>
            <p:cNvPr id="135" name="Up Arrow 8" descr=""/>
            <p:cNvPicPr/>
            <p:nvPr/>
          </p:nvPicPr>
          <p:blipFill>
            <a:blip r:embed="rId2"/>
            <a:stretch/>
          </p:blipFill>
          <p:spPr>
            <a:xfrm>
              <a:off x="3938760" y="1371600"/>
              <a:ext cx="8283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10956600">
              <a:off x="4179600" y="1413000"/>
              <a:ext cx="3603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itre 1"/>
          <p:cNvSpPr/>
          <p:nvPr/>
        </p:nvSpPr>
        <p:spPr>
          <a:xfrm>
            <a:off x="4427640" y="1413000"/>
            <a:ext cx="331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Agregatna traž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10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76360" y="333360"/>
            <a:ext cx="741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tica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na agr. tražnju za prehrambenim proizvodim determinisan je koeficijentom cenovne elastičnosti tražn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Cenovna elastičnost tražnje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 predstavlja procenat promene tražnje s procentom promene ce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E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kod prehrambenih proizvoda je negativna veličina i uglavnom je manja od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ražnja za prehrambenim proizvodima je relativno neelastična na promenu ce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INAMIKA RASTA 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ntent Placeholder 2"/>
          <p:cNvSpPr/>
          <p:nvPr/>
        </p:nvSpPr>
        <p:spPr>
          <a:xfrm>
            <a:off x="1476360" y="836640"/>
            <a:ext cx="766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topa promene agregatne tražnje za prehrambenim proizvodi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0000"/>
                </a:solidFill>
                <a:latin typeface="Calibri"/>
              </a:rPr>
              <a:t>AT=S+D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·</a:t>
            </a:r>
            <a:r>
              <a:rPr b="1" i="1" lang="sl-SI" sz="32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Godišnje promene u cenama hr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0000"/>
                </a:solidFill>
                <a:latin typeface="Calibri"/>
              </a:rPr>
              <a:t>Ch=(Q-AT)/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ff"/>
                </a:solidFill>
                <a:latin typeface="Calibri"/>
              </a:rPr>
              <a:t>ZADATAK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1476360" y="476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 je stopa rasta stanovništva (S) 3%, stopa rasta dohotka po stanovniku (D) 5% i dohodovna elastičnost tražnje za hranom (Ed) 0,5 izračunajte stopu rasta agregatne tražnje i obrazložite činioce rasta agregatne traž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2552760"/>
            <a:ext cx="2176200" cy="2162160"/>
          </a:xfrm>
          <a:prstGeom prst="rect">
            <a:avLst/>
          </a:prstGeom>
          <a:ln w="0">
            <a:noFill/>
          </a:ln>
        </p:spPr>
      </p:pic>
      <p:sp>
        <p:nvSpPr>
          <p:cNvPr id="148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ff"/>
                </a:solidFill>
                <a:latin typeface="Calibri"/>
              </a:rPr>
              <a:t>ZADATAK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ontent Placeholder 2"/>
          <p:cNvSpPr/>
          <p:nvPr/>
        </p:nvSpPr>
        <p:spPr>
          <a:xfrm>
            <a:off x="1476360" y="476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Ako je stopa rasta agregatne tražnje za hranom (AT) 6%, stopa rasta poljoprivredno prehrambene proizvodnje (Q) 2% i cenovna elastičnost tražnje -0,5 izračunajte promene u cenama h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700360" y="2565360"/>
            <a:ext cx="2174760" cy="2162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5651640" y="3068640"/>
            <a:ext cx="1533240" cy="152244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331640" y="476280"/>
            <a:ext cx="75610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hrambena industrija je jedna od industrijskih grana (oblasti) u kojoj se vrši prerada biljnih, životinjskih i mineralnih sirovina, radi zadovoljavanja prehrambenih potreba ljudi. Osnovni ciljevi prerade hrane s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ženje trajnosti i osiguranje kontinuirane ponu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boljšanje kvaliteta, odnosno upotrebne vrednos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ast stepena praktičnosti hran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većanje obima proizvodnje hrane, asortimana a time i unapređenje ishrane stanovništv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dovoljavanje kvantitativnih, kvalitativnih, gastronomskih i cenovnih zahteva potrošač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2. FUNKCIJA – PROIZVODNJA SIROVINA ZA INDUST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331640" y="549000"/>
            <a:ext cx="7561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 inicijalnim fazama privrednog razvoja poljoprivreda je praktično jedini izvor akumulac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menti prelivanja dohotka iz poljoprivrede 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ka (kontrola) c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ljnotrgovinska poli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eska poli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3. FUNKCIJA – </a:t>
            </a:r>
            <a:r>
              <a:rPr b="1" lang="sr-Latn-CS" sz="1800" spc="-1" strike="noStrike">
                <a:solidFill>
                  <a:srgbClr val="ff0000"/>
                </a:solidFill>
                <a:latin typeface="Calibri"/>
              </a:rPr>
              <a:t>IZVOR AKUMULACIJE ZA RAZVOJ NEPOLJ. DELA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31640" y="549000"/>
            <a:ext cx="7561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 inicijalnim fazama privrednog razvoja poljoprivreda je praktično jedini izvor akumulac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menti prelivanja dohotka iz poljoprivrede 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ka (kontrola) c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ljnotrgovinska poli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eska poli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331640" y="549000"/>
            <a:ext cx="7561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redni razvoj uslovljava promenu socio-ekonomske strukture stanovništva, pri čemu se ispoljava zakonomernost – smanjenje poljoprivrednog stanovništva, u početku, na nižem stepenu privredne razvijenosti samo relativno, a potom na višem stepenu privrednog razvoja i apsolutno i relativ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r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agrariz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4. FUNKCIJA – </a:t>
            </a:r>
            <a:r>
              <a:rPr b="1" lang="sr-Latn-CS" sz="1800" spc="-1" strike="noStrike">
                <a:solidFill>
                  <a:srgbClr val="ff0000"/>
                </a:solidFill>
                <a:latin typeface="Calibri"/>
              </a:rPr>
              <a:t>IZVOR RADNE SNAGE ZA RAZVOJ NEPOLJ. DELA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efinisan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oljoprivreda je jednostavna proizvodnja sirovih produkata ili proizvodnja koja prerađivačkoj industriji isporučuje sirovi materijal” </a:t>
            </a: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c22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79504"/>
                </a:solidFill>
                <a:latin typeface="Calibri"/>
              </a:rPr>
              <a:t>“</a:t>
            </a:r>
            <a:r>
              <a:rPr b="1" lang="sr-Latn-CS" sz="2000" spc="-1" strike="noStrike">
                <a:solidFill>
                  <a:srgbClr val="879504"/>
                </a:solidFill>
                <a:latin typeface="Calibri"/>
              </a:rPr>
              <a:t>Poljoprivreda je oblast proizvodnje u kojoj se proizvode, dorađuju ili prerađuju primarni proizvodi biljnog i životinjskog porekla radi zadovoljenja određenih čovekovih potreba”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U okviru opšteg pristupa definisanju poljoprivrede razlikujemo dva glediš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efinicije koje uključuju samo primarnu poljoprivrednu proizvod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efinicije koje modernu poljoprivredu izjednačavaju sa agrobiznis komplek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4f6228"/>
                </a:solidFill>
                <a:latin typeface="Calibri"/>
              </a:rPr>
              <a:t>Širina poimanja poljoprivrede određena je stepenom opšte razvijenosti zeml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331640" y="476280"/>
            <a:ext cx="75610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 ukupnim privrednim razvojem poljoprivreda i selo postaju sve značajnije unutrašnje tržište za plasman industrijskih proizvoda i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sman savremenih sredstava za proizvodnju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sman robe široke potrošnje za domaćinst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tno je postojanje čvrstih međusektorskih proizvodnih veza, osnosno input – autput odnosa sektora poljoprivreda – industrija, pri čemu povećanje proizvodnje i dohotka u jednom sektoru, omogućava povećanu proizvodnju i dohodak u drugom sektor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5. FUNKCIJA – Tržište za plasman industrijskih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6. FUNKCIJA – uravnoteženje platnog i trgovinskog bilan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331640" y="475920"/>
            <a:ext cx="7561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ni bilans  - razlika primanja i plaćanja između dve zemlje po svim osnova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govinski bilans – najznačajniji deo platnog bilansa i obuhvata transakcije koje se odnose na razmenu materijalnih dobara između dve zeml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e i instrumenti spoljnotrgovinske politike 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ncarinske dažb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vantitativna ograniče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mping c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28760" y="100008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Održivi razvoj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je razvoj koji zadovoljava trenutne zahteve, ne ograničavajući mogućnosti budućih generacija da ostvare svoje potreb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Održiva poljoprivreda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je način proizvodnje koji, posmatran u dužem vremenskom periodu, unapređuje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kvalitet životne sredine i resurse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 na kojima se proizvodnja zasniva, zadovoljava čovekove potrebe za hranom i vlaknima, ima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ekonomsku isplativost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i unapređuje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kvalitet života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poljoprivrednika i celokupnog društ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571680" y="285840"/>
            <a:ext cx="8032680" cy="504720"/>
          </a:xfrm>
          <a:prstGeom prst="roundRect">
            <a:avLst>
              <a:gd name="adj" fmla="val 16667"/>
            </a:avLst>
          </a:prstGeom>
          <a:solidFill>
            <a:srgbClr val="76923c"/>
          </a:solidFill>
          <a:ln w="93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Calibri"/>
              </a:rPr>
              <a:t>Održivi razvoj i održiva poljopriv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28760" y="1009800"/>
            <a:ext cx="8229600" cy="564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3"/>
          <p:cNvSpPr/>
          <p:nvPr/>
        </p:nvSpPr>
        <p:spPr>
          <a:xfrm>
            <a:off x="571680" y="285840"/>
            <a:ext cx="8032680" cy="504720"/>
          </a:xfrm>
          <a:prstGeom prst="roundRect">
            <a:avLst>
              <a:gd name="adj" fmla="val 16667"/>
            </a:avLst>
          </a:prstGeom>
          <a:solidFill>
            <a:srgbClr val="76923c"/>
          </a:solidFill>
          <a:ln w="93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Calibri"/>
              </a:rPr>
              <a:t>Održivi razvoj i održiva poljopriv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000160" y="1143000"/>
            <a:ext cx="5357880" cy="4199040"/>
          </a:xfrm>
          <a:prstGeom prst="rect">
            <a:avLst/>
          </a:prstGeom>
          <a:ln w="92160">
            <a:solidFill>
              <a:srgbClr val="879504"/>
            </a:solidFill>
            <a:miter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8760" y="100008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Multifunkcionalna poljoprivreda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pored osnovne funkcije proizvodnje hrane treba da obezbedi i “netržišne proizvode” koje se ogledaju u ulozi poljoprivrede 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Očuvanju životne sredine i biodiverzitet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Prehrambenoj sigurnos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Prehrambenoj bezbednos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Razvoju ruralne ekonomij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571680" y="285840"/>
            <a:ext cx="8032680" cy="504720"/>
          </a:xfrm>
          <a:prstGeom prst="roundRect">
            <a:avLst>
              <a:gd name="adj" fmla="val 16667"/>
            </a:avLst>
          </a:prstGeom>
          <a:solidFill>
            <a:srgbClr val="76923c"/>
          </a:solidFill>
          <a:ln w="93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Calibri"/>
              </a:rPr>
              <a:t>Multifunkcionalna poljopriv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28760" y="1009800"/>
            <a:ext cx="8229600" cy="564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RURALNO vs AGRA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3419640" y="2781360"/>
            <a:ext cx="2282760" cy="245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332000" y="82440"/>
            <a:ext cx="78120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stup – </a:t>
            </a:r>
            <a:r>
              <a:rPr b="1" i="1" lang="sr-Latn-CS" sz="2400" spc="-1" strike="noStrike">
                <a:solidFill>
                  <a:srgbClr val="879504"/>
                </a:solidFill>
                <a:latin typeface="Calibri"/>
              </a:rPr>
              <a:t>geografski (regionaln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okus – </a:t>
            </a:r>
            <a:r>
              <a:rPr b="1" i="1" lang="sr-Latn-CS" sz="2400" spc="-1" strike="noStrike">
                <a:solidFill>
                  <a:srgbClr val="879504"/>
                </a:solidFill>
                <a:latin typeface="Calibri"/>
              </a:rPr>
              <a:t>ruralno domaćin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795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879504"/>
                </a:solidFill>
                <a:latin typeface="Calibri"/>
              </a:rPr>
              <a:t>Polja interesov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Resursna i dohodovna alokacija na nivou domaćins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Evolucija i performanse poljoprivrednih institu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ohodovni nivoi specifičnih segmenata ruralne popu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iromaštvo i nejednak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ohodovna i prehrambena sigur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Obrazovanje, zdravstvo, kvalitet života ruralnog stanovništva, komunalni odnosi, zakonska regul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Ruralna ekonomij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Diagram 8" descr=""/>
          <p:cNvPicPr/>
          <p:nvPr/>
        </p:nvPicPr>
        <p:blipFill>
          <a:blip r:embed="rId1"/>
          <a:stretch/>
        </p:blipFill>
        <p:spPr>
          <a:xfrm>
            <a:off x="1620720" y="219240"/>
            <a:ext cx="5846760" cy="512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rcRect l="24508" t="30143" r="22931" b="21624"/>
          <a:stretch/>
        </p:blipFill>
        <p:spPr>
          <a:xfrm>
            <a:off x="468360" y="0"/>
            <a:ext cx="7954920" cy="54007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6227640" y="3068640"/>
            <a:ext cx="1729080" cy="459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SOCIOLOŠ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rcRect l="30413" t="13406" r="30017" b="10797"/>
          <a:stretch/>
        </p:blipFill>
        <p:spPr>
          <a:xfrm>
            <a:off x="539640" y="-27000"/>
            <a:ext cx="7920000" cy="5543640"/>
          </a:xfrm>
          <a:prstGeom prst="rect">
            <a:avLst/>
          </a:prstGeom>
          <a:ln w="0">
            <a:noFill/>
          </a:ln>
        </p:spPr>
      </p:pic>
      <p:sp>
        <p:nvSpPr>
          <p:cNvPr id="185" name="Multiply 6"/>
          <p:cNvSpPr/>
          <p:nvPr/>
        </p:nvSpPr>
        <p:spPr>
          <a:xfrm>
            <a:off x="1258920" y="1268280"/>
            <a:ext cx="360360" cy="28908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Multiply 7"/>
          <p:cNvSpPr/>
          <p:nvPr/>
        </p:nvSpPr>
        <p:spPr>
          <a:xfrm>
            <a:off x="1258920" y="2924280"/>
            <a:ext cx="360360" cy="28872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Multiply 8"/>
          <p:cNvSpPr/>
          <p:nvPr/>
        </p:nvSpPr>
        <p:spPr>
          <a:xfrm>
            <a:off x="1258920" y="2133720"/>
            <a:ext cx="360360" cy="287280"/>
          </a:xfrm>
          <a:custGeom>
            <a:avLst/>
            <a:gdLst/>
            <a:ahLst/>
            <a:rect l="l" t="t" r="r" b="b"/>
            <a:pathLst>
              <a:path w="360362" h="287338">
                <a:moveTo>
                  <a:pt x="65483" y="95432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9" y="95432"/>
                </a:lnTo>
                <a:lnTo>
                  <a:pt x="234382" y="143669"/>
                </a:lnTo>
                <a:lnTo>
                  <a:pt x="294879" y="191906"/>
                </a:lnTo>
                <a:lnTo>
                  <a:pt x="252746" y="244747"/>
                </a:lnTo>
                <a:lnTo>
                  <a:pt x="180181" y="186887"/>
                </a:lnTo>
                <a:lnTo>
                  <a:pt x="107616" y="244747"/>
                </a:lnTo>
                <a:lnTo>
                  <a:pt x="65483" y="191906"/>
                </a:lnTo>
                <a:lnTo>
                  <a:pt x="125980" y="143669"/>
                </a:lnTo>
                <a:lnTo>
                  <a:pt x="65483" y="954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ultiply 9"/>
          <p:cNvSpPr/>
          <p:nvPr/>
        </p:nvSpPr>
        <p:spPr>
          <a:xfrm>
            <a:off x="1258920" y="4437000"/>
            <a:ext cx="360360" cy="287280"/>
          </a:xfrm>
          <a:custGeom>
            <a:avLst/>
            <a:gdLst/>
            <a:ahLst/>
            <a:rect l="l" t="t" r="r" b="b"/>
            <a:pathLst>
              <a:path w="360362" h="287337">
                <a:moveTo>
                  <a:pt x="65484" y="95431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8" y="95431"/>
                </a:lnTo>
                <a:lnTo>
                  <a:pt x="234382" y="143669"/>
                </a:lnTo>
                <a:lnTo>
                  <a:pt x="294878" y="191906"/>
                </a:lnTo>
                <a:lnTo>
                  <a:pt x="252746" y="244746"/>
                </a:lnTo>
                <a:lnTo>
                  <a:pt x="180181" y="186886"/>
                </a:lnTo>
                <a:lnTo>
                  <a:pt x="107616" y="244746"/>
                </a:lnTo>
                <a:lnTo>
                  <a:pt x="65484" y="191906"/>
                </a:lnTo>
                <a:lnTo>
                  <a:pt x="125980" y="143669"/>
                </a:lnTo>
                <a:lnTo>
                  <a:pt x="65484" y="9543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Multiply 10"/>
          <p:cNvSpPr/>
          <p:nvPr/>
        </p:nvSpPr>
        <p:spPr>
          <a:xfrm>
            <a:off x="1332000" y="3429000"/>
            <a:ext cx="360360" cy="287280"/>
          </a:xfrm>
          <a:custGeom>
            <a:avLst/>
            <a:gdLst/>
            <a:ahLst/>
            <a:rect l="l" t="t" r="r" b="b"/>
            <a:pathLst>
              <a:path w="360362" h="287338">
                <a:moveTo>
                  <a:pt x="65483" y="95432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9" y="95432"/>
                </a:lnTo>
                <a:lnTo>
                  <a:pt x="234382" y="143669"/>
                </a:lnTo>
                <a:lnTo>
                  <a:pt x="294879" y="191906"/>
                </a:lnTo>
                <a:lnTo>
                  <a:pt x="252746" y="244747"/>
                </a:lnTo>
                <a:lnTo>
                  <a:pt x="180181" y="186887"/>
                </a:lnTo>
                <a:lnTo>
                  <a:pt x="107616" y="244747"/>
                </a:lnTo>
                <a:lnTo>
                  <a:pt x="65483" y="191906"/>
                </a:lnTo>
                <a:lnTo>
                  <a:pt x="125980" y="143669"/>
                </a:lnTo>
                <a:lnTo>
                  <a:pt x="65483" y="954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Agroindustrijski komple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 rot="60000">
            <a:off x="1662120" y="24588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547640" y="1700280"/>
            <a:ext cx="6912000" cy="352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31594" t="11437" r="29427" b="13750"/>
          <a:stretch/>
        </p:blipFill>
        <p:spPr>
          <a:xfrm>
            <a:off x="971640" y="-100080"/>
            <a:ext cx="7345440" cy="6050160"/>
          </a:xfrm>
          <a:prstGeom prst="rect">
            <a:avLst/>
          </a:prstGeom>
          <a:ln w="0">
            <a:noFill/>
          </a:ln>
        </p:spPr>
      </p:pic>
      <p:sp>
        <p:nvSpPr>
          <p:cNvPr id="192" name="Multiply 5"/>
          <p:cNvSpPr/>
          <p:nvPr/>
        </p:nvSpPr>
        <p:spPr>
          <a:xfrm>
            <a:off x="1763640" y="836640"/>
            <a:ext cx="360360" cy="28872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Multiply 6"/>
          <p:cNvSpPr/>
          <p:nvPr/>
        </p:nvSpPr>
        <p:spPr>
          <a:xfrm>
            <a:off x="1763640" y="2060640"/>
            <a:ext cx="360360" cy="28872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Multiply 7"/>
          <p:cNvSpPr/>
          <p:nvPr/>
        </p:nvSpPr>
        <p:spPr>
          <a:xfrm>
            <a:off x="1763640" y="2924280"/>
            <a:ext cx="360360" cy="28872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Multiply 8"/>
          <p:cNvSpPr/>
          <p:nvPr/>
        </p:nvSpPr>
        <p:spPr>
          <a:xfrm>
            <a:off x="1763640" y="4149720"/>
            <a:ext cx="360360" cy="287280"/>
          </a:xfrm>
          <a:custGeom>
            <a:avLst/>
            <a:gdLst/>
            <a:ahLst/>
            <a:rect l="l" t="t" r="r" b="b"/>
            <a:pathLst>
              <a:path w="360362" h="287338">
                <a:moveTo>
                  <a:pt x="65483" y="95432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9" y="95432"/>
                </a:lnTo>
                <a:lnTo>
                  <a:pt x="234382" y="143669"/>
                </a:lnTo>
                <a:lnTo>
                  <a:pt x="294879" y="191906"/>
                </a:lnTo>
                <a:lnTo>
                  <a:pt x="252746" y="244747"/>
                </a:lnTo>
                <a:lnTo>
                  <a:pt x="180181" y="186887"/>
                </a:lnTo>
                <a:lnTo>
                  <a:pt x="107616" y="244747"/>
                </a:lnTo>
                <a:lnTo>
                  <a:pt x="65483" y="191906"/>
                </a:lnTo>
                <a:lnTo>
                  <a:pt x="125980" y="143669"/>
                </a:lnTo>
                <a:lnTo>
                  <a:pt x="65483" y="954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ultiply 9"/>
          <p:cNvSpPr/>
          <p:nvPr/>
        </p:nvSpPr>
        <p:spPr>
          <a:xfrm>
            <a:off x="1763640" y="5229360"/>
            <a:ext cx="360360" cy="287280"/>
          </a:xfrm>
          <a:custGeom>
            <a:avLst/>
            <a:gdLst/>
            <a:ahLst/>
            <a:rect l="l" t="t" r="r" b="b"/>
            <a:pathLst>
              <a:path w="360362" h="287338">
                <a:moveTo>
                  <a:pt x="65483" y="95432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9" y="95432"/>
                </a:lnTo>
                <a:lnTo>
                  <a:pt x="234382" y="143669"/>
                </a:lnTo>
                <a:lnTo>
                  <a:pt x="294879" y="191906"/>
                </a:lnTo>
                <a:lnTo>
                  <a:pt x="252746" y="244747"/>
                </a:lnTo>
                <a:lnTo>
                  <a:pt x="180181" y="186887"/>
                </a:lnTo>
                <a:lnTo>
                  <a:pt x="107616" y="244747"/>
                </a:lnTo>
                <a:lnTo>
                  <a:pt x="65483" y="191906"/>
                </a:lnTo>
                <a:lnTo>
                  <a:pt x="125980" y="143669"/>
                </a:lnTo>
                <a:lnTo>
                  <a:pt x="65483" y="954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187280" y="260280"/>
            <a:ext cx="7499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avremeni pristu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MULTISEKTORSKI PRILA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hvata heterogenost ruralne ekonomije, a ne oslanjanje samo na poljoprivredu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važava povezanost ruralne populacije s širokim spektrom ekonomskih aktivnost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e izjednačava ruralno stanovništvo s poljoprivrednim proizvođačim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omoviše razvoj nepoljoprivrednih aktivnosti u ruralnoj sredin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sistira na unapređenju infrastrukture i uslužnih delatnost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Ruralna ekonomij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254061"/>
                </a:solidFill>
                <a:latin typeface="Calibri"/>
              </a:rPr>
              <a:t>Udeo ruralne populacije u ukupnoj,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Chart 4" descr="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577120"/>
          </a:xfrm>
          <a:prstGeom prst="rect">
            <a:avLst/>
          </a:prstGeom>
          <a:ln w="0">
            <a:noFill/>
          </a:ln>
        </p:spPr>
      </p:pic>
      <p:sp>
        <p:nvSpPr>
          <p:cNvPr id="202" name="Oval 5"/>
          <p:cNvSpPr/>
          <p:nvPr/>
        </p:nvSpPr>
        <p:spPr>
          <a:xfrm>
            <a:off x="7643880" y="1785960"/>
            <a:ext cx="500040" cy="4214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254061"/>
                </a:solidFill>
                <a:latin typeface="Calibri"/>
              </a:rPr>
              <a:t>Udeo ruralne teritorije u ukupnoj, 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Chart 2" descr=""/>
          <p:cNvPicPr/>
          <p:nvPr/>
        </p:nvPicPr>
        <p:blipFill>
          <a:blip r:embed="rId1"/>
          <a:stretch/>
        </p:blipFill>
        <p:spPr>
          <a:xfrm>
            <a:off x="0" y="1352520"/>
            <a:ext cx="8931240" cy="5078520"/>
          </a:xfrm>
          <a:prstGeom prst="rect">
            <a:avLst/>
          </a:prstGeom>
          <a:ln w="0">
            <a:noFill/>
          </a:ln>
        </p:spPr>
      </p:pic>
      <p:sp>
        <p:nvSpPr>
          <p:cNvPr id="205" name="Oval 3"/>
          <p:cNvSpPr/>
          <p:nvPr/>
        </p:nvSpPr>
        <p:spPr>
          <a:xfrm>
            <a:off x="8072280" y="1857240"/>
            <a:ext cx="500400" cy="4286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254061"/>
                </a:solidFill>
                <a:latin typeface="Calibri"/>
              </a:rPr>
              <a:t>Udeo GDP ruralnih područja u uk. GDP-u, 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Chart 2" descr=""/>
          <p:cNvPicPr/>
          <p:nvPr/>
        </p:nvPicPr>
        <p:blipFill>
          <a:blip r:embed="rId1"/>
          <a:stretch/>
        </p:blipFill>
        <p:spPr>
          <a:xfrm>
            <a:off x="281160" y="1427040"/>
            <a:ext cx="8654760" cy="4986360"/>
          </a:xfrm>
          <a:prstGeom prst="rect">
            <a:avLst/>
          </a:prstGeom>
          <a:ln w="0">
            <a:noFill/>
          </a:ln>
        </p:spPr>
      </p:pic>
      <p:sp>
        <p:nvSpPr>
          <p:cNvPr id="208" name="Oval 3"/>
          <p:cNvSpPr/>
          <p:nvPr/>
        </p:nvSpPr>
        <p:spPr>
          <a:xfrm>
            <a:off x="7786800" y="2500200"/>
            <a:ext cx="500040" cy="3571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360" y="198864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d0d"/>
                </a:solidFill>
                <a:latin typeface="Calibri"/>
              </a:rPr>
              <a:t>HVALA VAM NA PAŽN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tle 3"/>
          <p:cNvSpPr/>
          <p:nvPr/>
        </p:nvSpPr>
        <p:spPr>
          <a:xfrm>
            <a:off x="1547640" y="414972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d0d0d"/>
                </a:solidFill>
                <a:latin typeface="Calibri"/>
              </a:rPr>
              <a:t>bojan.matkovski@ef.uns.a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360440" y="214200"/>
            <a:ext cx="756936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Proizvodno-tehnološki i organizacio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poljoprivreda obuhvata samo primarnu proizvodnju ili objedinjava međusobno povezane delatnosti primarnog, sekundarnog i tercijalnog sekt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Poslovno-pofesional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Da li je poljoprivreda način života ili biznis kao i svaki drugi biznis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Radno-kult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poljoprivrednici imaju “urođeni” pristup svome posl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Ekološko-patriots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Da li poljoprivreda vodi računa o ravnoteži na relaciji čovek-priroda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Agro-globalističk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konvencionalna poljoprivreda može na adekvatan način da odgovori izazovima globalnog problema na relaciji “hrana-siromaštvo-populacija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Različiti pristupi definisanja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1692360" y="333360"/>
            <a:ext cx="7010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RITERIJU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češće poljoprivrednog u ukupnom stanovništvu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češće poljoprivrede u formiranju bruto domaćeg proizvoda (BD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ačaj poljoprivrede u spoljnotrgovinskoj razmeni, odnosno međunarodnoj trgovi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stupljenost investicija u poljoprivredi i ukupnim privrednim investicij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deo izdataka za ishranu u ukupnim izdacima za ličnu potrošnju domaćinst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619280" y="549360"/>
            <a:ext cx="7067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IZVODNJA HR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IZVODNJA SIROVINA ZA INDUSTRI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ZVOR AKUMULACIJE ZA NEPOLJOPRIVREDNE DELA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ZVOR RADNE SNAGE ZA NEPOLJOPRIVREDNE DELA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MIRANJE UNUTRAŠNJEG TRŽIŠTA ZA INDUSTRIJSKE PROIZV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RAVNOTEŽENJE PLATNOG I TRGOVINSKOG BILAN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FUNKCI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19280" y="259920"/>
            <a:ext cx="71388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PRODUKT KONTRIBU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PROIZVODNJA H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PROIZVODNJA SIROVINA ZA INDUSTRI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FAKTOR KONTRIBU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IZVOR AKUMULACIJE ZA NEPOLJOPRIVREDNE DELAT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IZVOR RADNE SNAGE ZA NEPOLJOPRIVREDNE DELAT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MARKET KONTRIBU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1.     FORMIRANJE UNUTRAŠNJEG TRŽIŠTA ZA INDUSTRIJSKE PROIZV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EKSPORT KONTRIBU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1.      URAVNOTEŽENJE PLATNOG I TRGOVINSKOG BILAN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FUNKCI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02920" y="404280"/>
            <a:ext cx="7489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vilna ishrana, količinski dovoljna, kvalitetna i zdravstveno ispravna hrana, opredeljuj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ladan razvitak ljudskog organizm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jegovu radnu sposobnos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dravstvenu kondicij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životni vek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kupan društveni i privredni razvo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rana je izvor energije potrebne čoveku za obavljanje svih njegovih aktiv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ROIZVODNJA H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3:52:42Z</dcterms:created>
  <dc:creator>User</dc:creator>
  <dc:description/>
  <dc:language>en-US</dc:language>
  <cp:lastModifiedBy>Dragana</cp:lastModifiedBy>
  <dcterms:modified xsi:type="dcterms:W3CDTF">2020-03-24T07:04:48Z</dcterms:modified>
  <cp:revision>96</cp:revision>
  <dc:subject/>
  <dc:title>EKOLOŠKI PROBLEMI POLJOPRIVREDNE PROIZVODNJE I RURALNOG RAZVOJA</dc:title>
</cp:coreProperties>
</file>