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96AD-F403-4724-BDDB-51119AC1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B5F-095D-4AFA-9A02-B5B3EC43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178-CC03-4C59-8630-2E1390BF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0CE-7C4C-4417-B466-3D9F519C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D5E-659B-4B3B-810B-657F85EB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F3E9-A184-40DD-99DF-4302F945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186E-E2E1-42C7-95E4-57BC6A35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D6F-4A7D-464D-AE9B-C5588350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B826-7A2D-40B3-A7F4-7584F4E6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D49-6633-4273-A378-CC58BA48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B18-0A34-47B0-81B1-A1966EF2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6011-B15A-4B4E-9C57-54CAEB7B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CBDF-8192-4759-A4B0-0B9BD1A19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71720" y="50004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8800" spc="-1" strike="noStrike">
                <a:solidFill>
                  <a:srgbClr val="77933c"/>
                </a:solidFill>
                <a:latin typeface="Arial Black"/>
                <a:ea typeface="Aharoni"/>
              </a:rPr>
              <a:t>AGRARN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8800" spc="-1" strike="noStrike">
                <a:solidFill>
                  <a:srgbClr val="ff0000"/>
                </a:solidFill>
                <a:latin typeface="Arial Black"/>
                <a:ea typeface="Aharoni"/>
              </a:rPr>
              <a:t>POLITIK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254061"/>
                </a:solidFill>
                <a:latin typeface="Arial Black"/>
                <a:ea typeface="Aharoni"/>
              </a:rPr>
              <a:t>E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re 1"/>
          <p:cNvSpPr/>
          <p:nvPr/>
        </p:nvSpPr>
        <p:spPr>
          <a:xfrm>
            <a:off x="1619280" y="5516640"/>
            <a:ext cx="72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Delovanje “Zakona” opadajućih povećanja prinosa zeml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5616720" cy="4434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619280" y="5516640"/>
            <a:ext cx="72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rednost sitnog ili krupnog  poljoprivrednog gazdinstv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rva grupa teoretičara: Prednost sitnih gazdinstava proističe iz njihove marljivosti, štedljivosti i vrednoć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Ljudski rad na nivou gazdinstva se nije vrednovao, a nivo potrošnje vrednovan je nisk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Druga grupa teoretičara: Prednost krupnih gazdinstava koja racionalnije koriste sredstva proizvodnje, imaju savremenu organizaciju rada, lakše dobijaju kred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1619280" y="5516640"/>
            <a:ext cx="72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rivatna svojina nad zemljiš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Ograničenost zemljišta je omogućila da pojedina lica ostvaruju monopol nad zemljištem što nije moguće kod drugih sredstava koja su masovno dostup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79504"/>
                </a:solidFill>
                <a:latin typeface="Calibri"/>
              </a:rPr>
              <a:t>Zemljišna renta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je ekonomska realizacija privatne svojine nad zemljiš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Apsolutna r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Diferencijalna renta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Diferencijalna renta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Monopolska r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re 1"/>
          <p:cNvSpPr/>
          <p:nvPr/>
        </p:nvSpPr>
        <p:spPr>
          <a:xfrm>
            <a:off x="539640" y="551664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ZAKON KONCENTRACIJE I CENTRALIZACIJE KAPITALA U POLJOPRIVR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79504"/>
                </a:solidFill>
                <a:latin typeface="Calibri"/>
              </a:rPr>
              <a:t>Koncentracija (akumulacija) kapitala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redstavlja uvećanje individualnog kapitala izdvajanjem i dodavanjem dela viška vrednosti kapitalu koji već funkcioniš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79504"/>
                </a:solidFill>
                <a:latin typeface="Calibri"/>
              </a:rPr>
              <a:t>Centralizacija kapitala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drazumevanja nestajanje individualnih kapitala spajanjem većeg broja individualnih kapitala u jedan, ili manji broj većih kapitala, što se ostvaruje konkurencij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re 1"/>
          <p:cNvSpPr/>
          <p:nvPr/>
        </p:nvSpPr>
        <p:spPr>
          <a:xfrm>
            <a:off x="539640" y="551664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ZAKON KONCENTRACIJE I CENTRALIZACIJE KAPITALA U POLJOPRIVR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Koncentracija (akumulacija) kapitala u proizvodnj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entralizacija zemljišt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entralizacija procesa u poljop. proizvodnj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6232320" cy="289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re 1"/>
          <p:cNvSpPr/>
          <p:nvPr/>
        </p:nvSpPr>
        <p:spPr>
          <a:xfrm>
            <a:off x="1476360" y="5516640"/>
            <a:ext cx="835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NAUČNO – TEHNIČKI PROGRES U POLJOPRIVR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79504"/>
                </a:solidFill>
                <a:latin typeface="Calibri"/>
              </a:rPr>
              <a:t>I TEHNOLOŠKA REVOLUCIJA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redstavlja 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tehničku revoluciju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– uvođenje traktora, poljoprivrednih mašina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79504"/>
                </a:solidFill>
                <a:latin typeface="Calibri"/>
              </a:rPr>
              <a:t>II TEHNOLOŠKA REVOLUCIJA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redstavlja 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zelenu ili hemijsku revoluciju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– upotreba mineralnih đubriva i drugih hemijskih inpu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79504"/>
                </a:solidFill>
                <a:latin typeface="Calibri"/>
              </a:rPr>
              <a:t>III TEHNOLOŠKA REVOLUCIJA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redstavlja biološku revoluciju – upotreba mineralnih genetski modifikovanih organiz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79504"/>
                </a:solidFill>
                <a:latin typeface="Calibri"/>
              </a:rPr>
              <a:t>NOVA TEHNOLOŠKA REVOLUCIJA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redstavlja kompjuterizaciju i informatizaciju u poljoprivred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re 1"/>
          <p:cNvSpPr/>
          <p:nvPr/>
        </p:nvSpPr>
        <p:spPr>
          <a:xfrm>
            <a:off x="1476360" y="5516640"/>
            <a:ext cx="835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NAUČNO – TEHNIČKI PROGRES U POLJOPRIVR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 rot="20529600">
            <a:off x="2792160" y="705960"/>
            <a:ext cx="4230720" cy="3502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le 1"/>
          <p:cNvSpPr/>
          <p:nvPr/>
        </p:nvSpPr>
        <p:spPr>
          <a:xfrm>
            <a:off x="914400" y="537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300" spc="-1" strike="noStrike">
                <a:solidFill>
                  <a:srgbClr val="ebf1de"/>
                </a:solidFill>
                <a:latin typeface="Calibri"/>
              </a:rPr>
              <a:t>Organska proizvodnja hran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6" descr="organski_proizvod.jpg"/>
          <p:cNvPicPr/>
          <p:nvPr/>
        </p:nvPicPr>
        <p:blipFill>
          <a:blip r:embed="rId1"/>
          <a:stretch/>
        </p:blipFill>
        <p:spPr>
          <a:xfrm>
            <a:off x="2987640" y="476280"/>
            <a:ext cx="4483080" cy="448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403280" y="549000"/>
            <a:ext cx="7283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GUMENTI 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ljoprivredna gazdinstva koja proizvod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organsk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hran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ne ispuštaju sintetičke pesticide u okolin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ljoprivredna gazdinstva koja proizvod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organsk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hran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ne narušavaju postojeće različite ekosiste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ća hranljiva vrednost organskih proizvo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7000920" y="4429080"/>
            <a:ext cx="928800" cy="838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6072120" y="4500720"/>
            <a:ext cx="801720" cy="723600"/>
          </a:xfrm>
          <a:prstGeom prst="rect">
            <a:avLst/>
          </a:prstGeom>
          <a:ln w="0">
            <a:noFill/>
          </a:ln>
        </p:spPr>
      </p:pic>
      <p:sp>
        <p:nvSpPr>
          <p:cNvPr id="77" name="Title 1"/>
          <p:cNvSpPr/>
          <p:nvPr/>
        </p:nvSpPr>
        <p:spPr>
          <a:xfrm>
            <a:off x="914400" y="537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300" spc="-1" strike="noStrike">
                <a:solidFill>
                  <a:srgbClr val="ebf1de"/>
                </a:solidFill>
                <a:latin typeface="Calibri"/>
              </a:rPr>
              <a:t>Organska proizvodnja hran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403280" y="188640"/>
            <a:ext cx="7283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GUMENTI PRO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Organski uzgajane namirnice trpe značajne količine gubitaka zbog glodara, insekata, bolesti, pa samim tim zahtevaju značajnu veću količinu zemljišta za istu količinu prin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Neki pesticidi se takođe koriste i u organskoj proizvodnji, neki od njih sadrže teški metal bakar, koji može biti izvor gomilanja istog u proizvod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Mnogi smatraju da organski proizverdena hrana nije održiva jer nije u mogućnosti da odgovori na sve potrebe čovečanstva za hranom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914400" y="537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300" spc="-1" strike="noStrike">
                <a:solidFill>
                  <a:srgbClr val="ebf1de"/>
                </a:solidFill>
                <a:latin typeface="Calibri"/>
              </a:rPr>
              <a:t>Organska proizvodnja hran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itre 1"/>
          <p:cNvSpPr/>
          <p:nvPr/>
        </p:nvSpPr>
        <p:spPr>
          <a:xfrm>
            <a:off x="2071800" y="178596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4f6228"/>
                </a:solidFill>
                <a:latin typeface="Calibri"/>
              </a:rPr>
              <a:t>Specifičnosti poljoprivre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403280" y="549000"/>
            <a:ext cx="7283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Proizvodnja hrane je veoma složen sistem koji predstavlja lanac sastavljen od nekoliko karika (primarna poljoprivredna proizvodnja, prerada, transport, prodaja), pa je zbog postizanja sigurnosti i kvaliteta hrane, ova proizvodnja regulisana raznim zakonskim akti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Sistemi standardizacije imaju višestruku ulogu kroz obezbeđivanje sigurnosti potrošača u pogledu kvaliteta i ispravnosti hr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Rounded Rectangle 5"/>
          <p:cNvGrpSpPr/>
          <p:nvPr/>
        </p:nvGrpSpPr>
        <p:grpSpPr>
          <a:xfrm>
            <a:off x="1420920" y="139680"/>
            <a:ext cx="2700360" cy="1073160"/>
            <a:chOff x="1420920" y="139680"/>
            <a:chExt cx="2700360" cy="1073160"/>
          </a:xfrm>
        </p:grpSpPr>
        <p:pic>
          <p:nvPicPr>
            <p:cNvPr id="83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1420920" y="139680"/>
              <a:ext cx="2700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506600" y="29196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I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Rounded Rectangle 6"/>
          <p:cNvGrpSpPr/>
          <p:nvPr/>
        </p:nvGrpSpPr>
        <p:grpSpPr>
          <a:xfrm>
            <a:off x="1420920" y="933480"/>
            <a:ext cx="2700360" cy="1071360"/>
            <a:chOff x="1420920" y="933480"/>
            <a:chExt cx="2700360" cy="1071360"/>
          </a:xfrm>
        </p:grpSpPr>
        <p:pic>
          <p:nvPicPr>
            <p:cNvPr id="8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420920" y="933480"/>
              <a:ext cx="270036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506600" y="108432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CC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Rounded Rectangle 8"/>
          <p:cNvGrpSpPr/>
          <p:nvPr/>
        </p:nvGrpSpPr>
        <p:grpSpPr>
          <a:xfrm>
            <a:off x="1285920" y="1762200"/>
            <a:ext cx="2975040" cy="1073160"/>
            <a:chOff x="1285920" y="1762200"/>
            <a:chExt cx="2975040" cy="1073160"/>
          </a:xfrm>
        </p:grpSpPr>
        <p:pic>
          <p:nvPicPr>
            <p:cNvPr id="89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1285920" y="1762200"/>
              <a:ext cx="297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511280" y="1879560"/>
              <a:ext cx="252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GLOBALG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Rounded Rectangle 9"/>
          <p:cNvGrpSpPr/>
          <p:nvPr/>
        </p:nvGrpSpPr>
        <p:grpSpPr>
          <a:xfrm>
            <a:off x="1420920" y="2590920"/>
            <a:ext cx="2700360" cy="1066680"/>
            <a:chOff x="1420920" y="2590920"/>
            <a:chExt cx="2700360" cy="1066680"/>
          </a:xfrm>
        </p:grpSpPr>
        <p:pic>
          <p:nvPicPr>
            <p:cNvPr id="92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1420920" y="2590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506600" y="273996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HAL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Rounded Rectangle 10"/>
          <p:cNvGrpSpPr/>
          <p:nvPr/>
        </p:nvGrpSpPr>
        <p:grpSpPr>
          <a:xfrm>
            <a:off x="1420920" y="3382920"/>
            <a:ext cx="2700360" cy="1066680"/>
            <a:chOff x="1420920" y="3382920"/>
            <a:chExt cx="2700360" cy="1066680"/>
          </a:xfrm>
        </p:grpSpPr>
        <p:pic>
          <p:nvPicPr>
            <p:cNvPr id="95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1420920" y="3382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506600" y="3532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KOŠ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Rounded Rectangle 12"/>
          <p:cNvGrpSpPr/>
          <p:nvPr/>
        </p:nvGrpSpPr>
        <p:grpSpPr>
          <a:xfrm>
            <a:off x="1420920" y="4175280"/>
            <a:ext cx="2700360" cy="1066680"/>
            <a:chOff x="1420920" y="4175280"/>
            <a:chExt cx="2700360" cy="1066680"/>
          </a:xfrm>
        </p:grpSpPr>
        <p:pic>
          <p:nvPicPr>
            <p:cNvPr id="98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1420920" y="417528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506600" y="4324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OSTAL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2" descr=""/>
          <p:cNvPicPr/>
          <p:nvPr/>
        </p:nvPicPr>
        <p:blipFill>
          <a:blip r:embed="rId7"/>
          <a:stretch/>
        </p:blipFill>
        <p:spPr>
          <a:xfrm>
            <a:off x="6732720" y="836640"/>
            <a:ext cx="1393560" cy="158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8"/>
          <a:stretch/>
        </p:blipFill>
        <p:spPr>
          <a:xfrm>
            <a:off x="4572000" y="40464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9"/>
          <a:stretch/>
        </p:blipFill>
        <p:spPr>
          <a:xfrm>
            <a:off x="4572000" y="2637000"/>
            <a:ext cx="3313080" cy="814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10"/>
          <a:stretch/>
        </p:blipFill>
        <p:spPr>
          <a:xfrm>
            <a:off x="5076720" y="3573360"/>
            <a:ext cx="1816200" cy="1702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Rounded Rectangle 5"/>
          <p:cNvGrpSpPr/>
          <p:nvPr/>
        </p:nvGrpSpPr>
        <p:grpSpPr>
          <a:xfrm>
            <a:off x="1420920" y="139680"/>
            <a:ext cx="2700360" cy="1073160"/>
            <a:chOff x="1420920" y="139680"/>
            <a:chExt cx="2700360" cy="1073160"/>
          </a:xfrm>
        </p:grpSpPr>
        <p:pic>
          <p:nvPicPr>
            <p:cNvPr id="106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1420920" y="139680"/>
              <a:ext cx="2700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506600" y="29196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I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ounded Rectangle 6"/>
          <p:cNvGrpSpPr/>
          <p:nvPr/>
        </p:nvGrpSpPr>
        <p:grpSpPr>
          <a:xfrm>
            <a:off x="1420920" y="933480"/>
            <a:ext cx="2700360" cy="1071360"/>
            <a:chOff x="1420920" y="933480"/>
            <a:chExt cx="2700360" cy="1071360"/>
          </a:xfrm>
        </p:grpSpPr>
        <p:pic>
          <p:nvPicPr>
            <p:cNvPr id="109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420920" y="933480"/>
              <a:ext cx="270036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506600" y="108432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CC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Rounded Rectangle 8"/>
          <p:cNvGrpSpPr/>
          <p:nvPr/>
        </p:nvGrpSpPr>
        <p:grpSpPr>
          <a:xfrm>
            <a:off x="1285920" y="1762200"/>
            <a:ext cx="2975040" cy="1073160"/>
            <a:chOff x="1285920" y="1762200"/>
            <a:chExt cx="2975040" cy="1073160"/>
          </a:xfrm>
        </p:grpSpPr>
        <p:pic>
          <p:nvPicPr>
            <p:cNvPr id="112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1285920" y="1762200"/>
              <a:ext cx="297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511280" y="1879560"/>
              <a:ext cx="252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GLOBALG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Rounded Rectangle 9"/>
          <p:cNvGrpSpPr/>
          <p:nvPr/>
        </p:nvGrpSpPr>
        <p:grpSpPr>
          <a:xfrm>
            <a:off x="1420920" y="2590920"/>
            <a:ext cx="2700360" cy="1066680"/>
            <a:chOff x="1420920" y="2590920"/>
            <a:chExt cx="2700360" cy="1066680"/>
          </a:xfrm>
        </p:grpSpPr>
        <p:pic>
          <p:nvPicPr>
            <p:cNvPr id="115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1420920" y="2590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506600" y="273996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HAL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Rounded Rectangle 10"/>
          <p:cNvGrpSpPr/>
          <p:nvPr/>
        </p:nvGrpSpPr>
        <p:grpSpPr>
          <a:xfrm>
            <a:off x="1420920" y="3382920"/>
            <a:ext cx="2700360" cy="1066680"/>
            <a:chOff x="1420920" y="3382920"/>
            <a:chExt cx="2700360" cy="1066680"/>
          </a:xfrm>
        </p:grpSpPr>
        <p:pic>
          <p:nvPicPr>
            <p:cNvPr id="118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1420920" y="3382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506600" y="3532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KOŠ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Rounded Rectangle 12"/>
          <p:cNvGrpSpPr/>
          <p:nvPr/>
        </p:nvGrpSpPr>
        <p:grpSpPr>
          <a:xfrm>
            <a:off x="1420920" y="4175280"/>
            <a:ext cx="2700360" cy="1066680"/>
            <a:chOff x="1420920" y="4175280"/>
            <a:chExt cx="2700360" cy="1066680"/>
          </a:xfrm>
        </p:grpSpPr>
        <p:pic>
          <p:nvPicPr>
            <p:cNvPr id="121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1420920" y="417528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506600" y="4324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OSTAL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ounded Rectangle 13"/>
          <p:cNvSpPr/>
          <p:nvPr/>
        </p:nvSpPr>
        <p:spPr>
          <a:xfrm>
            <a:off x="4140360" y="981000"/>
            <a:ext cx="4752720" cy="424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Primenjuju se u 162 drž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U Srbiji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O 900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O 1400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O 22000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HAS 1800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andard ISO 22000 se odnosi na proizvodnju zdravstveno ispravne hrane i on može obuhvatiti sve one organizacije koje učestvuju u tom lancu proizvodnje h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605 -0.00509 L 0.37605 -0.00509 E">
                                      <p:cBhvr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Rounded Rectangle 5"/>
          <p:cNvGrpSpPr/>
          <p:nvPr/>
        </p:nvGrpSpPr>
        <p:grpSpPr>
          <a:xfrm>
            <a:off x="1420920" y="139680"/>
            <a:ext cx="2700360" cy="1073160"/>
            <a:chOff x="1420920" y="139680"/>
            <a:chExt cx="2700360" cy="1073160"/>
          </a:xfrm>
        </p:grpSpPr>
        <p:pic>
          <p:nvPicPr>
            <p:cNvPr id="126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1420920" y="139680"/>
              <a:ext cx="2700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506600" y="29196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I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Rounded Rectangle 6"/>
          <p:cNvGrpSpPr/>
          <p:nvPr/>
        </p:nvGrpSpPr>
        <p:grpSpPr>
          <a:xfrm>
            <a:off x="1420920" y="933480"/>
            <a:ext cx="2700360" cy="1071360"/>
            <a:chOff x="1420920" y="933480"/>
            <a:chExt cx="2700360" cy="1071360"/>
          </a:xfrm>
        </p:grpSpPr>
        <p:pic>
          <p:nvPicPr>
            <p:cNvPr id="129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420920" y="933480"/>
              <a:ext cx="270036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506600" y="108432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CC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Rounded Rectangle 8"/>
          <p:cNvGrpSpPr/>
          <p:nvPr/>
        </p:nvGrpSpPr>
        <p:grpSpPr>
          <a:xfrm>
            <a:off x="1285920" y="1762200"/>
            <a:ext cx="2975040" cy="1073160"/>
            <a:chOff x="1285920" y="1762200"/>
            <a:chExt cx="2975040" cy="1073160"/>
          </a:xfrm>
        </p:grpSpPr>
        <p:pic>
          <p:nvPicPr>
            <p:cNvPr id="132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1285920" y="1762200"/>
              <a:ext cx="297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511280" y="1879560"/>
              <a:ext cx="252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GLOBALG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Rounded Rectangle 9"/>
          <p:cNvGrpSpPr/>
          <p:nvPr/>
        </p:nvGrpSpPr>
        <p:grpSpPr>
          <a:xfrm>
            <a:off x="1420920" y="2590920"/>
            <a:ext cx="2700360" cy="1066680"/>
            <a:chOff x="1420920" y="2590920"/>
            <a:chExt cx="2700360" cy="1066680"/>
          </a:xfrm>
        </p:grpSpPr>
        <p:pic>
          <p:nvPicPr>
            <p:cNvPr id="135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1420920" y="2590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506600" y="273996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HAL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Rounded Rectangle 10"/>
          <p:cNvGrpSpPr/>
          <p:nvPr/>
        </p:nvGrpSpPr>
        <p:grpSpPr>
          <a:xfrm>
            <a:off x="1420920" y="3382920"/>
            <a:ext cx="2700360" cy="1066680"/>
            <a:chOff x="1420920" y="3382920"/>
            <a:chExt cx="2700360" cy="1066680"/>
          </a:xfrm>
        </p:grpSpPr>
        <p:pic>
          <p:nvPicPr>
            <p:cNvPr id="138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1420920" y="3382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506600" y="3532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KOŠ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Rounded Rectangle 12"/>
          <p:cNvGrpSpPr/>
          <p:nvPr/>
        </p:nvGrpSpPr>
        <p:grpSpPr>
          <a:xfrm>
            <a:off x="1420920" y="4175280"/>
            <a:ext cx="2700360" cy="1066680"/>
            <a:chOff x="1420920" y="4175280"/>
            <a:chExt cx="2700360" cy="1066680"/>
          </a:xfrm>
        </p:grpSpPr>
        <p:pic>
          <p:nvPicPr>
            <p:cNvPr id="141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1420920" y="417528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506600" y="4324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OSTAL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ounded Rectangle 13"/>
          <p:cNvSpPr/>
          <p:nvPr/>
        </p:nvSpPr>
        <p:spPr>
          <a:xfrm>
            <a:off x="4140360" y="981000"/>
            <a:ext cx="4752720" cy="424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iza rizika i kritične kontrolne tačke u proizvodn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tem koji identifikuje, ocenjuje i kontroliše rizike koji su značajni za ispravnost h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htev u Srbiji je podnelo 800 preduzeća, a oko 450 je već i dobilo ovaj sertifik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ogućava izvoz na inostrano tržište, kao i postizanje većeg nivoa konkurent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42775E-006 L 0.39376 -0.12046 E">
                                      <p:cBhvr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Rounded Rectangle 5"/>
          <p:cNvGrpSpPr/>
          <p:nvPr/>
        </p:nvGrpSpPr>
        <p:grpSpPr>
          <a:xfrm>
            <a:off x="1420920" y="139680"/>
            <a:ext cx="2700360" cy="1073160"/>
            <a:chOff x="1420920" y="139680"/>
            <a:chExt cx="2700360" cy="1073160"/>
          </a:xfrm>
        </p:grpSpPr>
        <p:pic>
          <p:nvPicPr>
            <p:cNvPr id="146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1420920" y="139680"/>
              <a:ext cx="2700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506600" y="29196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I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6"/>
          <p:cNvGrpSpPr/>
          <p:nvPr/>
        </p:nvGrpSpPr>
        <p:grpSpPr>
          <a:xfrm>
            <a:off x="1420920" y="933480"/>
            <a:ext cx="2700360" cy="1071360"/>
            <a:chOff x="1420920" y="933480"/>
            <a:chExt cx="2700360" cy="1071360"/>
          </a:xfrm>
        </p:grpSpPr>
        <p:pic>
          <p:nvPicPr>
            <p:cNvPr id="149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420920" y="933480"/>
              <a:ext cx="270036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506600" y="108432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CC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ounded Rectangle 8"/>
          <p:cNvGrpSpPr/>
          <p:nvPr/>
        </p:nvGrpSpPr>
        <p:grpSpPr>
          <a:xfrm>
            <a:off x="1285920" y="1762200"/>
            <a:ext cx="2975040" cy="1073160"/>
            <a:chOff x="1285920" y="1762200"/>
            <a:chExt cx="2975040" cy="1073160"/>
          </a:xfrm>
        </p:grpSpPr>
        <p:pic>
          <p:nvPicPr>
            <p:cNvPr id="152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1285920" y="1762200"/>
              <a:ext cx="297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511280" y="1879560"/>
              <a:ext cx="252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GLOBALG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ounded Rectangle 9"/>
          <p:cNvGrpSpPr/>
          <p:nvPr/>
        </p:nvGrpSpPr>
        <p:grpSpPr>
          <a:xfrm>
            <a:off x="1420920" y="2590920"/>
            <a:ext cx="2700360" cy="1066680"/>
            <a:chOff x="1420920" y="2590920"/>
            <a:chExt cx="2700360" cy="1066680"/>
          </a:xfrm>
        </p:grpSpPr>
        <p:pic>
          <p:nvPicPr>
            <p:cNvPr id="155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1420920" y="2590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506600" y="273996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HAL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Rounded Rectangle 10"/>
          <p:cNvGrpSpPr/>
          <p:nvPr/>
        </p:nvGrpSpPr>
        <p:grpSpPr>
          <a:xfrm>
            <a:off x="1420920" y="3382920"/>
            <a:ext cx="2700360" cy="1066680"/>
            <a:chOff x="1420920" y="3382920"/>
            <a:chExt cx="2700360" cy="1066680"/>
          </a:xfrm>
        </p:grpSpPr>
        <p:pic>
          <p:nvPicPr>
            <p:cNvPr id="158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1420920" y="3382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06600" y="3532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KOŠ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Rounded Rectangle 12"/>
          <p:cNvGrpSpPr/>
          <p:nvPr/>
        </p:nvGrpSpPr>
        <p:grpSpPr>
          <a:xfrm>
            <a:off x="1420920" y="4175280"/>
            <a:ext cx="2700360" cy="1066680"/>
            <a:chOff x="1420920" y="4175280"/>
            <a:chExt cx="2700360" cy="1066680"/>
          </a:xfrm>
        </p:grpSpPr>
        <p:pic>
          <p:nvPicPr>
            <p:cNvPr id="161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1420920" y="417528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506600" y="4324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OSTAL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ounded Rectangle 13"/>
          <p:cNvSpPr/>
          <p:nvPr/>
        </p:nvSpPr>
        <p:spPr>
          <a:xfrm>
            <a:off x="4140360" y="981000"/>
            <a:ext cx="4752720" cy="424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nastao iz dobre proizvođačke prakse prateći zahteve potrošača.</a:t>
            </a:r>
            <a:br>
              <a:rPr sz="2000"/>
            </a:b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standard se odnosi na sve proizvodne procese i radne aktivnosti koje se sprovode na far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u skladu je i sa HACCP standar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potvrđuje se bezbednost i kontrola u proizvodnji hrane, postiže se i bolja konkurentnost preduzeća na svetskom tržištu, a dolazi i do stvaranja uslova za sticanje većeg prof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93064E-006 L 0.43316 -0.24116 E">
                                      <p:cBhvr>
                                        <p:cTn id="48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Rounded Rectangle 5"/>
          <p:cNvGrpSpPr/>
          <p:nvPr/>
        </p:nvGrpSpPr>
        <p:grpSpPr>
          <a:xfrm>
            <a:off x="1420920" y="139680"/>
            <a:ext cx="2700360" cy="1073160"/>
            <a:chOff x="1420920" y="139680"/>
            <a:chExt cx="2700360" cy="1073160"/>
          </a:xfrm>
        </p:grpSpPr>
        <p:pic>
          <p:nvPicPr>
            <p:cNvPr id="166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1420920" y="139680"/>
              <a:ext cx="2700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506600" y="29196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I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ounded Rectangle 6"/>
          <p:cNvGrpSpPr/>
          <p:nvPr/>
        </p:nvGrpSpPr>
        <p:grpSpPr>
          <a:xfrm>
            <a:off x="1420920" y="933480"/>
            <a:ext cx="2700360" cy="1071360"/>
            <a:chOff x="1420920" y="933480"/>
            <a:chExt cx="2700360" cy="1071360"/>
          </a:xfrm>
        </p:grpSpPr>
        <p:pic>
          <p:nvPicPr>
            <p:cNvPr id="169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420920" y="933480"/>
              <a:ext cx="270036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506600" y="108432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CC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ounded Rectangle 8"/>
          <p:cNvGrpSpPr/>
          <p:nvPr/>
        </p:nvGrpSpPr>
        <p:grpSpPr>
          <a:xfrm>
            <a:off x="1285920" y="1762200"/>
            <a:ext cx="2975040" cy="1073160"/>
            <a:chOff x="1285920" y="1762200"/>
            <a:chExt cx="2975040" cy="1073160"/>
          </a:xfrm>
        </p:grpSpPr>
        <p:pic>
          <p:nvPicPr>
            <p:cNvPr id="172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1285920" y="1762200"/>
              <a:ext cx="297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1511280" y="1879560"/>
              <a:ext cx="252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GLOBALG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ounded Rectangle 9"/>
          <p:cNvGrpSpPr/>
          <p:nvPr/>
        </p:nvGrpSpPr>
        <p:grpSpPr>
          <a:xfrm>
            <a:off x="1420920" y="2590920"/>
            <a:ext cx="2700360" cy="1066680"/>
            <a:chOff x="1420920" y="2590920"/>
            <a:chExt cx="2700360" cy="1066680"/>
          </a:xfrm>
        </p:grpSpPr>
        <p:pic>
          <p:nvPicPr>
            <p:cNvPr id="175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1420920" y="2590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506600" y="273996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HAL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Rounded Rectangle 10"/>
          <p:cNvGrpSpPr/>
          <p:nvPr/>
        </p:nvGrpSpPr>
        <p:grpSpPr>
          <a:xfrm>
            <a:off x="1420920" y="3382920"/>
            <a:ext cx="2700360" cy="1066680"/>
            <a:chOff x="1420920" y="3382920"/>
            <a:chExt cx="2700360" cy="1066680"/>
          </a:xfrm>
        </p:grpSpPr>
        <p:pic>
          <p:nvPicPr>
            <p:cNvPr id="178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1420920" y="3382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506600" y="3532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KOŠ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Rounded Rectangle 12"/>
          <p:cNvGrpSpPr/>
          <p:nvPr/>
        </p:nvGrpSpPr>
        <p:grpSpPr>
          <a:xfrm>
            <a:off x="1420920" y="4175280"/>
            <a:ext cx="2700360" cy="1066680"/>
            <a:chOff x="1420920" y="4175280"/>
            <a:chExt cx="2700360" cy="1066680"/>
          </a:xfrm>
        </p:grpSpPr>
        <p:pic>
          <p:nvPicPr>
            <p:cNvPr id="181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1420920" y="417528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506600" y="4324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OSTAL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ounded Rectangle 13"/>
          <p:cNvSpPr/>
          <p:nvPr/>
        </p:nvSpPr>
        <p:spPr>
          <a:xfrm>
            <a:off x="4140360" y="981000"/>
            <a:ext cx="4752720" cy="424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primenjuje se u zemljama gde ima potrošača muslimanske veroispove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potekao je iz šerijatskog zakona koji utvrđuje način pripreme h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Sertifikacija po Halal standardu je u odredbama zdravstvenih, higijenskih i sanitarnih mera kompatibilna sa HACCP i ISO standard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50289E-006 L 0.40955 -0.36162 E">
                                      <p:cBhvr>
                                        <p:cTn id="58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Rounded Rectangle 5"/>
          <p:cNvGrpSpPr/>
          <p:nvPr/>
        </p:nvGrpSpPr>
        <p:grpSpPr>
          <a:xfrm>
            <a:off x="1420920" y="139680"/>
            <a:ext cx="2700360" cy="1073160"/>
            <a:chOff x="1420920" y="139680"/>
            <a:chExt cx="2700360" cy="1073160"/>
          </a:xfrm>
        </p:grpSpPr>
        <p:pic>
          <p:nvPicPr>
            <p:cNvPr id="186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1420920" y="139680"/>
              <a:ext cx="2700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506600" y="29196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I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Rounded Rectangle 6"/>
          <p:cNvGrpSpPr/>
          <p:nvPr/>
        </p:nvGrpSpPr>
        <p:grpSpPr>
          <a:xfrm>
            <a:off x="1420920" y="933480"/>
            <a:ext cx="2700360" cy="1071360"/>
            <a:chOff x="1420920" y="933480"/>
            <a:chExt cx="2700360" cy="1071360"/>
          </a:xfrm>
        </p:grpSpPr>
        <p:pic>
          <p:nvPicPr>
            <p:cNvPr id="189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420920" y="933480"/>
              <a:ext cx="270036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1506600" y="108432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CC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Rounded Rectangle 8"/>
          <p:cNvGrpSpPr/>
          <p:nvPr/>
        </p:nvGrpSpPr>
        <p:grpSpPr>
          <a:xfrm>
            <a:off x="1285920" y="1762200"/>
            <a:ext cx="2975040" cy="1073160"/>
            <a:chOff x="1285920" y="1762200"/>
            <a:chExt cx="2975040" cy="1073160"/>
          </a:xfrm>
        </p:grpSpPr>
        <p:pic>
          <p:nvPicPr>
            <p:cNvPr id="192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1285920" y="1762200"/>
              <a:ext cx="297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511280" y="1879560"/>
              <a:ext cx="252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GLOBALG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Rounded Rectangle 9"/>
          <p:cNvGrpSpPr/>
          <p:nvPr/>
        </p:nvGrpSpPr>
        <p:grpSpPr>
          <a:xfrm>
            <a:off x="1420920" y="2590920"/>
            <a:ext cx="2700360" cy="1066680"/>
            <a:chOff x="1420920" y="2590920"/>
            <a:chExt cx="2700360" cy="1066680"/>
          </a:xfrm>
        </p:grpSpPr>
        <p:pic>
          <p:nvPicPr>
            <p:cNvPr id="195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1420920" y="2590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506600" y="273996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HAL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Rounded Rectangle 10"/>
          <p:cNvGrpSpPr/>
          <p:nvPr/>
        </p:nvGrpSpPr>
        <p:grpSpPr>
          <a:xfrm>
            <a:off x="1420920" y="3382920"/>
            <a:ext cx="2700360" cy="1066680"/>
            <a:chOff x="1420920" y="3382920"/>
            <a:chExt cx="2700360" cy="1066680"/>
          </a:xfrm>
        </p:grpSpPr>
        <p:pic>
          <p:nvPicPr>
            <p:cNvPr id="198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1420920" y="3382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506600" y="3532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KOŠ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Rounded Rectangle 12"/>
          <p:cNvGrpSpPr/>
          <p:nvPr/>
        </p:nvGrpSpPr>
        <p:grpSpPr>
          <a:xfrm>
            <a:off x="1420920" y="4175280"/>
            <a:ext cx="2700360" cy="1066680"/>
            <a:chOff x="1420920" y="4175280"/>
            <a:chExt cx="2700360" cy="1066680"/>
          </a:xfrm>
        </p:grpSpPr>
        <p:pic>
          <p:nvPicPr>
            <p:cNvPr id="201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1420920" y="417528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506600" y="4324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OSTAL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ounded Rectangle 13"/>
          <p:cNvSpPr/>
          <p:nvPr/>
        </p:nvSpPr>
        <p:spPr>
          <a:xfrm>
            <a:off x="4140360" y="981000"/>
            <a:ext cx="4752720" cy="424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šer predstavlja skup jevrejskih pravila ish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vreji koji se pridržavaju jevrejskih pravila ishrane ne konzumiraju hranu koja ne ispunjava koš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tifikat se dobija od ovlašćenog rabina, a sama procedura za dobijanje ovog standarda može biti komplikovana i zahtev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21965E-006 L 0.42518 -0.47699 E">
                                      <p:cBhvr>
                                        <p:cTn id="68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Rounded Rectangle 5"/>
          <p:cNvGrpSpPr/>
          <p:nvPr/>
        </p:nvGrpSpPr>
        <p:grpSpPr>
          <a:xfrm>
            <a:off x="1420920" y="139680"/>
            <a:ext cx="2700360" cy="1073160"/>
            <a:chOff x="1420920" y="139680"/>
            <a:chExt cx="2700360" cy="1073160"/>
          </a:xfrm>
        </p:grpSpPr>
        <p:pic>
          <p:nvPicPr>
            <p:cNvPr id="206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1420920" y="139680"/>
              <a:ext cx="2700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506600" y="29196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I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Rounded Rectangle 6"/>
          <p:cNvGrpSpPr/>
          <p:nvPr/>
        </p:nvGrpSpPr>
        <p:grpSpPr>
          <a:xfrm>
            <a:off x="1420920" y="933480"/>
            <a:ext cx="2700360" cy="1071360"/>
            <a:chOff x="1420920" y="933480"/>
            <a:chExt cx="2700360" cy="1071360"/>
          </a:xfrm>
        </p:grpSpPr>
        <p:pic>
          <p:nvPicPr>
            <p:cNvPr id="209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420920" y="933480"/>
              <a:ext cx="270036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1506600" y="108432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CC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8"/>
          <p:cNvGrpSpPr/>
          <p:nvPr/>
        </p:nvGrpSpPr>
        <p:grpSpPr>
          <a:xfrm>
            <a:off x="1285920" y="1762200"/>
            <a:ext cx="2975040" cy="1073160"/>
            <a:chOff x="1285920" y="1762200"/>
            <a:chExt cx="2975040" cy="1073160"/>
          </a:xfrm>
        </p:grpSpPr>
        <p:pic>
          <p:nvPicPr>
            <p:cNvPr id="212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1285920" y="1762200"/>
              <a:ext cx="297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511280" y="1879560"/>
              <a:ext cx="252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GLOBALG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9"/>
          <p:cNvGrpSpPr/>
          <p:nvPr/>
        </p:nvGrpSpPr>
        <p:grpSpPr>
          <a:xfrm>
            <a:off x="1420920" y="2590920"/>
            <a:ext cx="2700360" cy="1066680"/>
            <a:chOff x="1420920" y="2590920"/>
            <a:chExt cx="2700360" cy="1066680"/>
          </a:xfrm>
        </p:grpSpPr>
        <p:pic>
          <p:nvPicPr>
            <p:cNvPr id="215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1420920" y="2590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1506600" y="273996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HAL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ounded Rectangle 10"/>
          <p:cNvGrpSpPr/>
          <p:nvPr/>
        </p:nvGrpSpPr>
        <p:grpSpPr>
          <a:xfrm>
            <a:off x="1420920" y="3382920"/>
            <a:ext cx="2700360" cy="1066680"/>
            <a:chOff x="1420920" y="3382920"/>
            <a:chExt cx="2700360" cy="1066680"/>
          </a:xfrm>
        </p:grpSpPr>
        <p:pic>
          <p:nvPicPr>
            <p:cNvPr id="218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1420920" y="3382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506600" y="3532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KOŠ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Rounded Rectangle 12"/>
          <p:cNvGrpSpPr/>
          <p:nvPr/>
        </p:nvGrpSpPr>
        <p:grpSpPr>
          <a:xfrm>
            <a:off x="1420920" y="4175280"/>
            <a:ext cx="2700360" cy="1066680"/>
            <a:chOff x="1420920" y="4175280"/>
            <a:chExt cx="2700360" cy="1066680"/>
          </a:xfrm>
        </p:grpSpPr>
        <p:pic>
          <p:nvPicPr>
            <p:cNvPr id="221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1420920" y="417528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1506600" y="4324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OSTAL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ounded Rectangle 13"/>
          <p:cNvSpPr/>
          <p:nvPr/>
        </p:nvSpPr>
        <p:spPr>
          <a:xfrm>
            <a:off x="4140360" y="981000"/>
            <a:ext cx="4752720" cy="424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 izvoz u Veliku Britaniju je neophodno posedovati BRC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 izvoz u Rusiju, koja za Srbiju predstavlja značajno izvozno tržiše voća potrebno je ispuniti GOST standarde kvalite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tifikati koji garantuju da je hrana proizvedena na organski nač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5.78035E-008 L 0.41737 -0.59237 E">
                                      <p:cBhvr>
                                        <p:cTn id="78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00120" y="171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d0d"/>
                </a:solidFill>
                <a:latin typeface="Calibri"/>
              </a:rPr>
              <a:t>HVALA VAM NA </a:t>
            </a:r>
            <a:br>
              <a:rPr sz="4400"/>
            </a:br>
            <a:r>
              <a:rPr b="1" lang="sr-Latn-CS" sz="4400" spc="-1" strike="noStrike">
                <a:solidFill>
                  <a:srgbClr val="0d0d0d"/>
                </a:solidFill>
                <a:latin typeface="Calibri"/>
              </a:rPr>
              <a:t>PAŽNJI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itle 3"/>
          <p:cNvSpPr/>
          <p:nvPr/>
        </p:nvSpPr>
        <p:spPr>
          <a:xfrm>
            <a:off x="1547640" y="4149720"/>
            <a:ext cx="73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d0d0d"/>
                </a:solidFill>
                <a:latin typeface="Calibri"/>
              </a:rPr>
              <a:t>bojan.matkovski@ef.uns.ac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Specifičnosti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Organski karakter poljoprivredne proizvodn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79504"/>
                </a:solidFill>
                <a:latin typeface="Calibri"/>
              </a:rPr>
              <a:t>Visok uticaj prirodnih fakto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Nepodudarnost vremena trajanja proizvodnje sa vremenom neposrednog procesa ra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79504"/>
                </a:solidFill>
                <a:latin typeface="Calibri"/>
              </a:rPr>
              <a:t>Sporiji obrt kapitala u poljoprivred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oljoprivreda ima sposobnost da proizvodi sredstva za sopstvenu reprodukcij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79504"/>
                </a:solidFill>
                <a:latin typeface="Calibri"/>
              </a:rPr>
              <a:t>Selo je jedinstvrena socijalna sredina, a seljaštvo jedini društveni sloj u kome nema diferencijaci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Delovanje “Zakona” opadajućeg povećanja prinosa zeml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79504"/>
                </a:solidFill>
                <a:latin typeface="Calibri"/>
              </a:rPr>
              <a:t>Prednost sitnog ili krupnog poljoprivrednog gazdinst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Organski karakter poljoprivredne proizvod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četni materijal ne sadrži svu masu finalnog proizvo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Živi rad ostvaruje daleko veći efekat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ljoprivredna proizvodnja zahteva pažnju, brigu i požrtvovano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Danas su pojedini radni procesi u poljoprivredi potpuno automatizova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Visok uticaj prirodnih fakt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ljoprivredna proizvodnja se odvija na otvorenom prostor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Suše, poplave, grad, mraz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Veliki proizvodni rizi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Smanjenje uticaja moguće je putem melioracija, veštačkih đubriv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re 1"/>
          <p:cNvSpPr/>
          <p:nvPr/>
        </p:nvSpPr>
        <p:spPr>
          <a:xfrm>
            <a:off x="1619280" y="5516640"/>
            <a:ext cx="72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Nepodudarnost vremena trajanja proizvodnje i vremena procesa r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stojanje vegetacionog perioda u biljnoj i reprodukcionog ciklusa u stočarskoj proizvodnj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Vreme trajanja proizvodnje nekoliko meseci, a procesa rada ponekad samo nekoliko d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Neravnomerno i neracionalno korišćenje sredst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Kombinovanje različitih tipova proizvodn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1619280" y="5516640"/>
            <a:ext cx="72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Sporiji obrt kapitala u poljoprivr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stojanje vegetacionog perioda u biljnoj i reprodukcionog ciklusa u stočarskoj proizvodnj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Kapital iste veličine uložen u poljoprivredu i neke druge delatnosti, pri istoj profitnoj stopi donosi niži profit u poljoprivredi, zbog dužine trajanja jednog obrta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Uvođe novih sorti i r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re 1"/>
          <p:cNvSpPr/>
          <p:nvPr/>
        </p:nvSpPr>
        <p:spPr>
          <a:xfrm>
            <a:off x="1619280" y="5516640"/>
            <a:ext cx="72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oljoprivreda proizvodi sredstva za sopstvenu reprodukc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Seme, sadnice, stočna hrana, podmladak stoke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Tehnološki progres uslovljava prevazilaženje ove specifič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re 1"/>
          <p:cNvSpPr/>
          <p:nvPr/>
        </p:nvSpPr>
        <p:spPr>
          <a:xfrm>
            <a:off x="1619280" y="5516640"/>
            <a:ext cx="72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Selo je jedinstvena socijalna sred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70640" cy="3743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3:52:42Z</dcterms:created>
  <dc:creator>User</dc:creator>
  <dc:description/>
  <dc:language>en-US</dc:language>
  <cp:lastModifiedBy>Dragana</cp:lastModifiedBy>
  <dcterms:modified xsi:type="dcterms:W3CDTF">2020-03-24T07:05:46Z</dcterms:modified>
  <cp:revision>110</cp:revision>
  <dc:subject/>
  <dc:title>EKOLOŠKI PROBLEMI POLJOPRIVREDNE PROIZVODNJE I RURALNOG RAZVOJA</dc:title>
</cp:coreProperties>
</file>