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F6A-649C-4DE3-9EE9-D05142BE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3FB-5465-4FD2-86F0-B6065D55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794-46E0-456A-8947-93E2847C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1B5-1034-414F-8AD2-2DB1843F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9A7-A0DC-4B31-8F30-37D40E91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79C-EC95-4938-9AC8-94EE707A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089-740C-4C0A-8B45-C324D729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3DD-C51B-4F9F-8397-09AB195D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D5E-EF74-4EB2-8997-19386BB5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107-A331-439E-81D0-62D074B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0AF-00F3-4532-AB31-BBCD3778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EE7-6885-47E9-B4E9-AA7F404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5974-996E-474E-A1A8-D44393588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jpe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500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77933c"/>
                </a:solidFill>
                <a:latin typeface="Arial Black"/>
                <a:ea typeface="Aharoni"/>
              </a:rPr>
              <a:t>AGRARN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ff0000"/>
                </a:solidFill>
                <a:latin typeface="Arial Black"/>
                <a:ea typeface="Aharoni"/>
              </a:rPr>
              <a:t>POLITIK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254061"/>
                </a:solidFill>
                <a:latin typeface="Arial Black"/>
                <a:ea typeface="Aharoni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79504"/>
                </a:solidFill>
                <a:latin typeface="Calibri"/>
              </a:rPr>
              <a:t>Zašto udeo poljoprivrede opada tokom ekonomskog razvoja</a:t>
            </a:r>
            <a:r>
              <a:rPr b="0" lang="tr-TR" sz="3200" spc="-1" strike="noStrike">
                <a:solidFill>
                  <a:srgbClr val="879504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8480" y="1500120"/>
            <a:ext cx="742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ohodovno neelastična tražnj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 hranom: rastom dohotka po glavi stanovnika, opada udeo izdataka za ishranu u domaćinsv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Engelov zak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rastom dohotka po glavi stanovnika, proporcija dohotka potrošenog na hranu relativno opada u odnosu na druge proizv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28480" y="428760"/>
            <a:ext cx="742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ko tražnja domaćinstava za hranom opada u odnosu na druge proizvode, relativne cene hrane opada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gracija faktora proizvodnje iz poljoprivrede u druge delatnosti (rada i kapital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deo poljoprivrede opada tokom razvojnog proce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88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koro uvek, udeo poljoprivrede opada 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posle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ruto domaćem proizv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delu izdataka za ishr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a li poljoprivredni proizvođači postaju siromašnij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a li se smanjuje broj poljoprivrednih proizvođača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1692360" y="333360"/>
            <a:ext cx="7010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NDIKATOR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nog u ukupnom stanovništv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e u formiranju bruto domaćeg proizvoda (BD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ačaj poljoprivrede u spoljnotrgovinskoj razmeni, odnosno međunarodnoj trgovi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stupljenost investicija u poljoprivredi i ukupnim privrednim investicij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deo izdataka za ishranu u ukupnim izdacima za ličnu potrošnju domaćin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928880" y="214200"/>
            <a:ext cx="6286320" cy="509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9144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643040" y="428760"/>
            <a:ext cx="7067520" cy="481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9144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28840" y="214200"/>
            <a:ext cx="7072200" cy="514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Agroindustrijski komple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 rot="60000">
            <a:off x="1662120" y="24588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5" descr="think-5.jpg"/>
          <p:cNvPicPr/>
          <p:nvPr/>
        </p:nvPicPr>
        <p:blipFill>
          <a:blip r:embed="rId1"/>
          <a:srcRect l="0" t="14587" r="0" b="12500"/>
          <a:stretch/>
        </p:blipFill>
        <p:spPr>
          <a:xfrm>
            <a:off x="0" y="221472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 result for mk group"/>
          <p:cNvPicPr/>
          <p:nvPr/>
        </p:nvPicPr>
        <p:blipFill>
          <a:blip r:embed="rId2"/>
          <a:srcRect l="30360" t="37082" r="32535" b="39327"/>
          <a:stretch/>
        </p:blipFill>
        <p:spPr>
          <a:xfrm>
            <a:off x="2000160" y="3143160"/>
            <a:ext cx="1684440" cy="7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age result for bayer crop"/>
          <p:cNvPicPr/>
          <p:nvPr/>
        </p:nvPicPr>
        <p:blipFill>
          <a:blip r:embed="rId3"/>
          <a:stretch/>
        </p:blipFill>
        <p:spPr>
          <a:xfrm>
            <a:off x="714240" y="3786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Related image"/>
          <p:cNvPicPr/>
          <p:nvPr/>
        </p:nvPicPr>
        <p:blipFill>
          <a:blip r:embed="rId4"/>
          <a:stretch/>
        </p:blipFill>
        <p:spPr>
          <a:xfrm>
            <a:off x="785880" y="3000240"/>
            <a:ext cx="784080" cy="80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Related image"/>
          <p:cNvPicPr/>
          <p:nvPr/>
        </p:nvPicPr>
        <p:blipFill>
          <a:blip r:embed="rId5"/>
          <a:srcRect l="45006" t="49228" r="0" b="0"/>
          <a:stretch/>
        </p:blipFill>
        <p:spPr>
          <a:xfrm>
            <a:off x="785880" y="2214720"/>
            <a:ext cx="857160" cy="68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Image result for raiffeisen agro"/>
          <p:cNvPicPr/>
          <p:nvPr/>
        </p:nvPicPr>
        <p:blipFill>
          <a:blip r:embed="rId6"/>
          <a:stretch/>
        </p:blipFill>
        <p:spPr>
          <a:xfrm>
            <a:off x="785880" y="1357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Image result for delta agrar"/>
          <p:cNvPicPr/>
          <p:nvPr/>
        </p:nvPicPr>
        <p:blipFill>
          <a:blip r:embed="rId7"/>
          <a:stretch/>
        </p:blipFill>
        <p:spPr>
          <a:xfrm>
            <a:off x="2000160" y="3786120"/>
            <a:ext cx="17686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Image result for carnex"/>
          <p:cNvPicPr/>
          <p:nvPr/>
        </p:nvPicPr>
        <p:blipFill>
          <a:blip r:embed="rId8"/>
          <a:srcRect l="30472" t="12513" r="28519" b="12513"/>
          <a:stretch/>
        </p:blipFill>
        <p:spPr>
          <a:xfrm>
            <a:off x="4357800" y="3286080"/>
            <a:ext cx="763560" cy="7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Related image"/>
          <p:cNvPicPr/>
          <p:nvPr/>
        </p:nvPicPr>
        <p:blipFill>
          <a:blip r:embed="rId9"/>
          <a:stretch/>
        </p:blipFill>
        <p:spPr>
          <a:xfrm>
            <a:off x="2071800" y="2286000"/>
            <a:ext cx="1747800" cy="73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Related image"/>
          <p:cNvPicPr/>
          <p:nvPr/>
        </p:nvPicPr>
        <p:blipFill>
          <a:blip r:embed="rId10"/>
          <a:stretch/>
        </p:blipFill>
        <p:spPr>
          <a:xfrm>
            <a:off x="2071800" y="1214280"/>
            <a:ext cx="1500120" cy="814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0" descr="Imlek"/>
          <p:cNvPicPr/>
          <p:nvPr/>
        </p:nvPicPr>
        <p:blipFill>
          <a:blip r:embed="rId11"/>
          <a:stretch/>
        </p:blipFill>
        <p:spPr>
          <a:xfrm>
            <a:off x="4143240" y="2286000"/>
            <a:ext cx="1285920" cy="890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Victoriaoil"/>
          <p:cNvPicPr/>
          <p:nvPr/>
        </p:nvPicPr>
        <p:blipFill>
          <a:blip r:embed="rId12"/>
          <a:stretch/>
        </p:blipFill>
        <p:spPr>
          <a:xfrm>
            <a:off x="642960" y="571680"/>
            <a:ext cx="1047600" cy="509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Univerexport"/>
          <p:cNvPicPr/>
          <p:nvPr/>
        </p:nvPicPr>
        <p:blipFill>
          <a:blip r:embed="rId13"/>
          <a:stretch/>
        </p:blipFill>
        <p:spPr>
          <a:xfrm>
            <a:off x="5715000" y="4214880"/>
            <a:ext cx="142704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4" descr="Industrija mesa Matijevi&amp;cacute;"/>
          <p:cNvPicPr/>
          <p:nvPr/>
        </p:nvPicPr>
        <p:blipFill>
          <a:blip r:embed="rId14"/>
          <a:stretch/>
        </p:blipFill>
        <p:spPr>
          <a:xfrm>
            <a:off x="2214720" y="642960"/>
            <a:ext cx="1346040" cy="3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Image result for coca cola logo"/>
          <p:cNvPicPr/>
          <p:nvPr/>
        </p:nvPicPr>
        <p:blipFill>
          <a:blip r:embed="rId15"/>
          <a:stretch/>
        </p:blipFill>
        <p:spPr>
          <a:xfrm>
            <a:off x="4286160" y="1214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Image result for carlsberg logo"/>
          <p:cNvPicPr/>
          <p:nvPr/>
        </p:nvPicPr>
        <p:blipFill>
          <a:blip r:embed="rId16"/>
          <a:stretch/>
        </p:blipFill>
        <p:spPr>
          <a:xfrm>
            <a:off x="3929040" y="4143240"/>
            <a:ext cx="1433520" cy="58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Related image"/>
          <p:cNvPicPr/>
          <p:nvPr/>
        </p:nvPicPr>
        <p:blipFill>
          <a:blip r:embed="rId17"/>
          <a:srcRect l="0" t="0" r="0" b="23522"/>
          <a:stretch/>
        </p:blipFill>
        <p:spPr>
          <a:xfrm>
            <a:off x="4143240" y="357120"/>
            <a:ext cx="135756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Резултат слика за horeca"/>
          <p:cNvPicPr/>
          <p:nvPr/>
        </p:nvPicPr>
        <p:blipFill>
          <a:blip r:embed="rId18"/>
          <a:stretch/>
        </p:blipFill>
        <p:spPr>
          <a:xfrm>
            <a:off x="7421400" y="3929040"/>
            <a:ext cx="150516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Image result for lidl logo"/>
          <p:cNvPicPr/>
          <p:nvPr/>
        </p:nvPicPr>
        <p:blipFill>
          <a:blip r:embed="rId19"/>
          <a:stretch/>
        </p:blipFill>
        <p:spPr>
          <a:xfrm>
            <a:off x="6000840" y="3000240"/>
            <a:ext cx="880920" cy="88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0" descr="Image result for maxi logo"/>
          <p:cNvPicPr/>
          <p:nvPr/>
        </p:nvPicPr>
        <p:blipFill>
          <a:blip r:embed="rId20"/>
          <a:srcRect l="0" t="23600" r="0" b="24159"/>
          <a:stretch/>
        </p:blipFill>
        <p:spPr>
          <a:xfrm>
            <a:off x="5643720" y="2286000"/>
            <a:ext cx="1571400" cy="455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6" descr="Image result for idea market logo"/>
          <p:cNvPicPr/>
          <p:nvPr/>
        </p:nvPicPr>
        <p:blipFill>
          <a:blip r:embed="rId21"/>
          <a:stretch/>
        </p:blipFill>
        <p:spPr>
          <a:xfrm>
            <a:off x="5715000" y="1428840"/>
            <a:ext cx="1357200" cy="51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8" descr="Related image"/>
          <p:cNvPicPr/>
          <p:nvPr/>
        </p:nvPicPr>
        <p:blipFill>
          <a:blip r:embed="rId22"/>
          <a:stretch/>
        </p:blipFill>
        <p:spPr>
          <a:xfrm>
            <a:off x="592920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4" descr="Image result for man ate  illustration"/>
          <p:cNvPicPr/>
          <p:nvPr/>
        </p:nvPicPr>
        <p:blipFill>
          <a:blip r:embed="rId23"/>
          <a:stretch/>
        </p:blipFill>
        <p:spPr>
          <a:xfrm>
            <a:off x="7572240" y="1785960"/>
            <a:ext cx="1289160" cy="208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71400" y="1571400"/>
            <a:ext cx="73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HVALA VAM NA 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1547640" y="41497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d0d0d"/>
                </a:solidFill>
                <a:latin typeface="Calibri"/>
              </a:rPr>
              <a:t>bojan.matkovski@ef.uns.a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476360" y="1052640"/>
          <a:ext cx="6840720" cy="3343320"/>
        </p:xfrm>
        <a:graphic>
          <a:graphicData uri="http://schemas.openxmlformats.org/drawingml/2006/table">
            <a:tbl>
              <a:tblPr/>
              <a:tblGrid>
                <a:gridCol w="5040360"/>
                <a:gridCol w="1800360"/>
              </a:tblGrid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I </a:t>
                      </a: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KOLOKVIJ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II </a:t>
                      </a: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KOLOKVIJ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PRISTUPNI R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AKTIV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USMENI ISP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UKUP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Espace réservé du contenu 2"/>
          <p:cNvSpPr/>
          <p:nvPr/>
        </p:nvSpPr>
        <p:spPr>
          <a:xfrm>
            <a:off x="1428840" y="404640"/>
            <a:ext cx="73580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Arial Black"/>
              </a:rPr>
              <a:t>I </a:t>
            </a:r>
            <a:r>
              <a:rPr b="1" lang="sr-Latn-RS" sz="3600" spc="-1" strike="noStrike">
                <a:solidFill>
                  <a:srgbClr val="879504"/>
                </a:solidFill>
                <a:latin typeface="Arial Black"/>
              </a:rPr>
              <a:t>KOLOKVIJ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UVOD U EKONOMIKU POLJOPRI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OLJOPRIVREDA I PRIVREDNI 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ČNOSTI POLJOPRI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DINAMIKA RASTA AGREGATNE TRAŽ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1357200" y="333360"/>
            <a:ext cx="70725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Arial Black"/>
              </a:rPr>
              <a:t>II </a:t>
            </a:r>
            <a:r>
              <a:rPr b="1" lang="sr-Latn-RS" sz="3600" spc="-1" strike="noStrike">
                <a:solidFill>
                  <a:srgbClr val="879504"/>
                </a:solidFill>
                <a:latin typeface="Arial Black"/>
              </a:rPr>
              <a:t>KOLOKVIJ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AGRAR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MEĐUNARODNA TRGOVINA I TRGOVINSKA POLITIKA POLJOPRIVREDNIM PROIZVOD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357200" y="333360"/>
            <a:ext cx="757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879504"/>
                </a:solidFill>
                <a:latin typeface="Arial Black"/>
              </a:rPr>
              <a:t>USMENI ISP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ZAJEDNIČKA AGRARNA POLITIKA ZEMALJA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RANZICIJA AGRARNOG SEKTORA I INTEGRACIJA ZEMALJA CENTRALNE I ISTOČNE EV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efinisan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oljoprivreda je jednostavna proizvodnja sirovih produkata ili proizvodnja koja prerađivačkoj industriji isporučuje sirovi materijal” </a:t>
            </a: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c22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Poljoprivreda je oblast proizvodnje u kojoj se proizvode, dorađuju ili prerađuju primarni proizvodi biljnog i životinjskog porekla radi zadovoljenja određenih čovekovih potreba”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U okviru opšteg pristupa definisanju poljoprivrede razlikujemo dva glediš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uključuju samo primarnu poljoprivrednu proizvod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modernu poljoprivredu izjednačavaju sa agrobiznis komplek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4f6228"/>
                </a:solidFill>
                <a:latin typeface="Calibri"/>
              </a:rPr>
              <a:t>Širina poimanja poljoprivrede određena je stepenom opšte razvijenosti zeml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360440" y="214200"/>
            <a:ext cx="756936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roizvodno-tehnološki i organizacio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a obuhvata samo primarnu proizvodnju ili objedinjava međusobno povezane delatnosti primarnog, sekundarnog i tercijalnog sekt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oslovno-pofesional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je poljoprivreda način života ili biznis kao i svaki drugi biznis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Radno-kult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nici imaju “urođeni” pristup svome posl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Ekološko-patriots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poljoprivreda vodi računa o ravnoteži na relaciji čovek-priroda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Agro-globalističk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konvencionalna poljoprivreda može na adekvatan način da odgovori izazovima globalnog problema na relaciji “hrana-siromaštvo-populacij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Različiti pristupi definisanja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879504"/>
                </a:solidFill>
                <a:latin typeface="Calibri"/>
              </a:rPr>
              <a:t>Ekonomika poljoprivre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99760" y="1928880"/>
            <a:ext cx="7358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Kako proizvođači, potrošači i društvo koriste ograničene resurse u proizvodnji, preradi, marketingu i potrošnji hra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56840" y="285840"/>
            <a:ext cx="75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ezbeđenje hrane za stanovniš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2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izvodnja sirovina za industr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3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vor radne snage za drug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4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vor kapitala za drug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5: Formiranje unutrašnjeg tržišta za industrijske proizv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6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ravnoteženje platnog i trgovinskog bilan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unkci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52:42Z</dcterms:created>
  <dc:creator>User</dc:creator>
  <dc:description/>
  <dc:language>en-US</dc:language>
  <cp:lastModifiedBy>Dragana</cp:lastModifiedBy>
  <dcterms:modified xsi:type="dcterms:W3CDTF">2020-03-24T07:00:05Z</dcterms:modified>
  <cp:revision>120</cp:revision>
  <dc:subject/>
  <dc:title>EKOLOŠKI PROBLEMI POLJOPRIVREDNE PROIZVODNJE I RURALNOG RAZVOJA</dc:title>
</cp:coreProperties>
</file>